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24E1-04D3-4C20-B771-F5A94984F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DD33-7E31-4518-9771-9B3369DAB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1F13-37A7-46A4-A093-EDB3F1E86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5AC8-B063-4B73-9E66-C8E51AB99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3782-8402-444D-BEF6-D51697B80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2B5F-DC7F-4EEF-B603-2B3348124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BE33-4333-4A66-AC9E-4CB8A16C3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4FA9-4A72-4E57-B31D-384C5E47E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E643-91D2-4D1B-B0C3-DF0CA1777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7DDF-5E7F-4FAF-B250-032C72357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385F-A498-4BBA-B28F-434ED02B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6F6B-6B8B-45D8-8278-2749EE1A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60784-D6B5-4D00-972A-57210D70D7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nC layer Introduction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VN revision 14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Disclaimer: thing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/private/wrappertraitsdb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aits structs describe wrapper/nativ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685800" y="2819520"/>
            <a:ext cx="8305920" cy="37335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wrappertraitsdb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apperTraits&lt;WRP_CLASS&gt;::NativeClass *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st2Nativ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_CLASS * 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WrapperTraits&lt;WRP_CLASS&gt;::Native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ive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ive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 !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 = reinterpret_cast&lt;NativeClass*&gt;(p-&gt;pt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: object lifetime mgm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native instance pointed by wrapper is owned by the wrapper us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is always dynamically allo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XXX_destroy() must be used: releases the native instance as well as the wra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the native instance pointed by wrapper is not owned by the wrapp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can be on stack, initializ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o release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urious Cpix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IdxDb_release instead of _destroy to emphasize that multiple clients asking for the same index will share instance (to avoid Clucene lock collisions and for optim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has handle_ instead of ptr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usin of cpix_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Lucene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e is done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(indexing) is done through 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is done through IndexSearcher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Reader and IndexWriter LOCK the physical index  during their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reader first will prevent creating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writer first will allow creating a reader for searching, but deletion will f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s long as the same instance is used for searching than the one for deletion, deleted objects will not show up as h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e has to close() or commit() the reader to make sure the deletion information ends up on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According to the clucene comments, commit() is not supposed to be used by client programmers, it is meant as an internal thing on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llects docs in RAM-buffer (off to the side), regularly committ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is no search or delete through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 is no updat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has to do deletion and addition ma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 needs IndexReader, addition needs IndexWriter (go fig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(when used for deleting) and IndexWriter are mutually exclusive on the same physical index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nd destroying readers and writers are </a:t>
            </a:r>
            <a:r>
              <a:rPr b="1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costly IO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is conceptually incremental (provides update functionality), but in practice it is nearly use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messiest parts of Cpix (multithreading, async API, delta-commit-logic and IdxDb) ar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ovide a nice update feature on Cpix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performance los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update-dela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in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lucene IndexSearcher, IndexReader and IndexWriter were directly exposed as cpix_IndexSearcher, ....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at had to be re-wrought, becaus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ple clients (monitor and search) would lock each other out of the same physical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atuitous, frequent calls to those ”costly IO operations” would butche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dxDb (off-to-the-side delta index) were b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is slideset is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Calibri"/>
              </a:rPr>
              <a:t>... 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an architecture or design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merely a somewhat ordered collection of source code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ways corresponds to a single physical index 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ages lucene IndexReader / -searcher / -writer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voids multiple clients locking each other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ies to minimize the number of necessary optimize() calls and lucene Index??? instance constructions and de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 refers to shared IdxDb instances through hand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sing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IIdxDb (interfac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sists registry (base app classes and pa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forms sanity checks as well as physically cleanup / prepare index directories, housekee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mplements the same interface as IdxDb (w dummy modifier func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 search on multiple physical inde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fact it is a client to 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aggregates the IndexReaders obtained from IdxDb instances and using lucene Multi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cpix_IdxSearcher has a handl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ither an IdxDb (qual. baseappclass): single id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appclass (list)): multiple idx-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has 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++ exceptions thrown by STL, clucene of Cpix itself must not leave Cpix public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must be caught and trans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call to native function must be wrapp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try-catch syntax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mands the operation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 called in the try-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181480" y="4191120"/>
            <a:ext cx="350532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nativeObject-&gt;doSometh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LuceneError &amp; 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Exc &amp; 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d::exception &amp; ex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ternative sol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py-pasting the piece of code all over the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Readable, but utterly unmaintan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-mac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undebuggable, non type safe, unrea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un-time interface for functor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::doIt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or each native member function ever called, there will have to be an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implementation – a lo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mpile-time interface (template concept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::operator()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Basically, for each number of arguments of any member function called, there will have to be a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definition – far less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779760" y="22860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779760" y="312408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79760" y="43434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928080" y="57913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et’s say we want to implement public A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ing the native 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ll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east amount of re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ation of new public Cpix functions should be fairly easy by follow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352680" y="2209680"/>
            <a:ext cx="5105520" cy="9907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181480" y="3809880"/>
            <a:ext cx="3505320" cy="14479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inary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3352680" y="2133720"/>
            <a:ext cx="541044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715000" y="4114800"/>
            <a:ext cx="2743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urved Connector 8"/>
          <p:cNvCxnSpPr>
            <a:stCxn id="171" idx="5"/>
            <a:endCxn id="172" idx="7"/>
          </p:cNvCxnSpPr>
          <p:nvPr/>
        </p:nvCxnSpPr>
        <p:spPr>
          <a:xfrm flipH="1" rot="16200000">
            <a:off x="7184880" y="3309480"/>
            <a:ext cx="1658160" cy="86400"/>
          </a:xfrm>
          <a:prstGeom prst="curvedConnector5">
            <a:avLst>
              <a:gd name="adj1" fmla="val 49989"/>
              <a:gd name="adj2" fmla="val 49790"/>
              <a:gd name="adj3" fmla="val 49989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olving to native instance by wrapper pointer o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cpix_XXX wrapper contains pointer, Cast2Native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case of cpix_IdxDb and cpix_IdxSearcher (with handle), IIdxDb::getPtr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HndlTraits and PtrResolver templates in cpixutil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590920" y="5257800"/>
            <a:ext cx="6400800" cy="1295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trResolver&lt;WRP, HndlTraits&lt;WRP&gt;::V&gt; 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Re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pr.ptr(); // value of expression of pointer to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FUNC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 call to a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d const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ember fu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wner class,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rg types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do not matte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templ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thers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tore arguments fo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429000" y="838080"/>
            <a:ext cx="5562720" cy="58676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_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 result_ty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_RESOLVER ptrResolver_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_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(PTR_RESOLVER ptr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ptrResolver_(ptrResolv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_(mFu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tr = ptrResolver_.pt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urn (ptr-&gt;*mFunc_)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 need a functor to get to native instance AND call function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family of overloaded template free functions creating a type-correct FUN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066680" y="3733920"/>
            <a:ext cx="7696440" cy="31240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MemFuncCaller&lt;RET, PtrResolver&lt;WRP, HndlTraits&lt;WRP&gt;::V&gt;,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        * thisOb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Resolver&lt;WRP, HndlTraits&lt;WRP&gt;::V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MemFuncCaller&lt;RET, PR, NAT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R(thisObj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tual exception translation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57400" y="2057400"/>
            <a:ext cx="6858000" cy="48006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::result_type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(WRP_CLASS     * thisObj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         func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Obj-&gt;err_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LuceneError &amp; cl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lucen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pixExc &amp; cpix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pix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std::exception &amp; stdExc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std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publi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 the implementation of cpix_Field_isBin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call the Field::isBinary member function via the thisField-&gt;ptr_, translating any exceptions to thisField-&gt;err_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1066680" y="2133720"/>
            <a:ext cx="7467840" cy="30477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           //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// native instance fro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&amp;Field::isBin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_ca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r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ee types of ca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all to a ”member function” (XlateEx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reation of a native instance + wrapper (Cre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Initialization of wrapper with a native (Initial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ll three (XlateExc, Create, Initialize) are defined in cpixutil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ly these catch and translate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ree loci to maintain instead of gaz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28600" y="2819520"/>
            <a:ext cx="8610480" cy="9144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esult,             // cpix_Result *, reporting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// dummy, conveys only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eldName,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t2Native&lt;cpix_Analyzer&gt;(analyzer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28600" y="4267080"/>
            <a:ext cx="868680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Initial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eld,               // cpix_Field *,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// dummy, conveys only typ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,       // const wchar_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,     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s));  // int configuration 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you obtain the native pointer, and you just need to wrap it: use Create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80880" y="2666880"/>
            <a:ext cx="7848720" cy="39625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rc/cpixdoc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 * cpix_Document_fields(cpix_Document * thisDocu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fe = XlateExc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r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Document::field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_Succeeded(thisDocumen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reateWrap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fe,           // native ptr, deleted on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Document,  // report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);           // ptr to wrapper 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Asyn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as fast as possible (they should not wait for a lengthy indexing operation to comple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do not have to be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are not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uffices to do well for one search client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t it should allow multiple search and index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_async.h / 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l ASYNC related functionality is declared in one header file, only one header to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read the public API documentation comments in cpix_async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 functions have both sync and async ver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you use the ASYNC version of one function, they you must use the ASYNC version of all functions that provid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sync engin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133720" y="2743200"/>
            <a:ext cx="99036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51460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209680" y="3200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209680" y="358128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209680" y="3962520"/>
            <a:ext cx="838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390600" y="33526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QRY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26668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1763280" y="4800600"/>
            <a:ext cx="2134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QRY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4267080" y="182880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403080" y="1447920"/>
            <a:ext cx="21740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ster (API)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22"/>
          <p:cNvCxnSpPr>
            <a:stCxn id="211" idx="7"/>
            <a:endCxn id="204" idx="3"/>
          </p:cNvCxnSpPr>
          <p:nvPr/>
        </p:nvCxnSpPr>
        <p:spPr>
          <a:xfrm flipH="1">
            <a:off x="3352320" y="2171880"/>
            <a:ext cx="95184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4" name="Straight Arrow Connector 24"/>
          <p:cNvCxnSpPr>
            <a:stCxn id="207" idx="2"/>
            <a:endCxn id="210" idx="0"/>
          </p:cNvCxnSpPr>
          <p:nvPr/>
        </p:nvCxnSpPr>
        <p:spPr>
          <a:xfrm>
            <a:off x="2629080" y="4267080"/>
            <a:ext cx="2023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5" name="Rectangle 27"/>
          <p:cNvSpPr/>
          <p:nvPr/>
        </p:nvSpPr>
        <p:spPr>
          <a:xfrm>
            <a:off x="6095880" y="2743200"/>
            <a:ext cx="99072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579132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6172200" y="3200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6172200" y="358128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6172200" y="3962520"/>
            <a:ext cx="8380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7171920" y="33526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IDX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3"/>
          <p:cNvSpPr/>
          <p:nvPr/>
        </p:nvSpPr>
        <p:spPr>
          <a:xfrm>
            <a:off x="63244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5422320" y="4800600"/>
            <a:ext cx="202032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DX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5"/>
          <p:cNvCxnSpPr>
            <a:stCxn id="211" idx="8"/>
            <a:endCxn id="216" idx="1"/>
          </p:cNvCxnSpPr>
          <p:nvPr/>
        </p:nvCxnSpPr>
        <p:spPr>
          <a:xfrm>
            <a:off x="4429080" y="2011320"/>
            <a:ext cx="136296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24" name="Straight Arrow Connector 36"/>
          <p:cNvCxnSpPr>
            <a:stCxn id="219" idx="2"/>
            <a:endCxn id="222" idx="0"/>
          </p:cNvCxnSpPr>
          <p:nvPr/>
        </p:nvCxnSpPr>
        <p:spPr>
          <a:xfrm flipH="1">
            <a:off x="6431760" y="4267080"/>
            <a:ext cx="1594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25" name="TextBox 40"/>
          <p:cNvSpPr/>
          <p:nvPr/>
        </p:nvSpPr>
        <p:spPr>
          <a:xfrm>
            <a:off x="5800680" y="1600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reates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3517560" y="4267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ume/do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cel m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client does not have to collect th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it can get the callback until the cancel() method 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job, once submitted to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st be either collected of its results, or cancelled (if operation is cancell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otherwise, leak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client collects the results, it owns any result object, and is responsible for their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s like a synchronized queue (Cpt::SyncQue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ctually has a SyncQueue member (delegation instead of inheritance due to ARM compil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also stores ”done but not-collected” jobs in a set – engine owns jobs until collected or can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essy bit: job destruction can happen both in master thread and in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voiding double destruction and leak is tric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 (cont’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cpix_async.cpp: AsyncJob::cancel(), AsyncJob::doJob(), AsyncJob::Cancel(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ossible cases, at the time of a canc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not even started: the cancel operation in the context of the master thread takes it out of jobqueue and destroys it (aka ”shallow cancel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being done: callback will not happen; the slave thread, upon job completion, will destroy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already done: callback has already happened; the cancel operation running in the context of the master thread (client API) destroys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 (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oss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tform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de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g Engine) OpenC lay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ines searching and indexing API in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it using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”native” (i.e. Clucen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ranslates C++ exceptions to non-exception based error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hile originally only a wrapper around Clucene, due to optimization issues it implements a significant bit of complexity on its own (own implementation is also C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public API does </a:t>
            </a:r>
            <a:r>
              <a:rPr b="1" i="1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pport multith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or instance, if you have a cpix_Document or cpix_IdxSearcher, you must NOT use them from multiple th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is true for any cpix_XXX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ou can, however, have two cpix_IdxSearchers instances in two threads that happen to search on the same domain selector (like ”root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aison d’ê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wever, Cpix does provide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implementation of the async API requires the async jobs to be performed by slave thre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ence the need for thread-safe impl of certain parts of CP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ceptually, CLucene does not need to be MT-enabled, because the whole point of IdxDb is to manage the exclusive instances of readers/wri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Clucene has global caches too ...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 CLuc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can be configured for 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uses up a lot of mutexes, practically, each added document, during a merge (at peak mutex consumption), implies around 25 mutexe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 merely 490 little documents to an index will result in mutex (OpenC: pthread_mutex_t) allocation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actically us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thread Clucen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vision 792 introduced new config flag for CLucene: CPIX_ASYNC_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enables only the necessary mutexes (identified by painstaking grepping and searching through clucene sour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document added requires only one mutex ever at 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is still possible that not everything was properly protected by mutexes ... (not likely, but sti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most all non-plugin-type of features are implemented by / through 3 cla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, IdxDb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thogonal” features added piecemeal (not architected in adv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-index search, volume def/undef, delta-commit-logic, MT required for async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ew amorphically, never had tim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riting exhaustive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owing out obsolete, simplification or refac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ree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YNC operations: master (public API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 open/release, doc/field creation, etc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SYNC search operations: search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, document fe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t of ASYNC operations: indexing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 / delete /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lush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stances that can be accessed concurrently must be 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RotLo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rotating log files std out / err are redirect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AsyncJ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class for all asynchronous job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ynchronizing cancelled_/calledback_ member flags to control cancellation and lifetime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 (not really Cpix, but it’s t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producer-consumer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ses mutex and conditional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rom libcpixtools.l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eldFilter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eld filter instances are in a pool to reduce ctor/dtor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Mg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wner of all IdxDb and Multi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st general features are implemented here (volume def/undef,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nages a physical index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own member variables as well as the physical directory accesses must be sync-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rovides both sync and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ync API is for console apps and for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sync API (cpix_async.h) is for engin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 of Object Orienting 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Foo_doFoo(pFoo, ...) instead of C++ style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Foo-&gt;doFoo(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function that can fail communicate errors through either the ”this” pointer (”member functions”) or via a pointer to cpix_Result (”free function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ersionedReader (idxdb.h / cp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bobject/”part” of IdxDb, high level of cou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searches involving multiple physical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n-recursive vs recursive mtx-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Mutex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ault constructor: non-recursive mu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verloaded constructor can be used for recursive mut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ursive mutexes are used only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usually signify ”messy par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Reader, IdxDbMgr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suggest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un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un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moveHnd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a searcher (with possibly multiple physical indexes involv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reat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clos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withing VersionedReader::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force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index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searche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leaseHndl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... (anything that went on for releasing index 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l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Recover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add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All that went on for flu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pdate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 of add and delete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rms query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rms query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rror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04920" y="1295280"/>
            <a:ext cx="8534160" cy="54104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[256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Result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Analyzer * analyzer = ..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queryParser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cre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&amp;resul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”body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&amp;result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 * query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pars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ueryParser, L”hell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queryParser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queryParser-&gt;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result.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045040" y="121932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static ”/ cre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Curved Connector 7"/>
          <p:cNvCxnSpPr>
            <a:stCxn id="53" idx="2"/>
          </p:cNvCxnSpPr>
          <p:nvPr/>
        </p:nvCxnSpPr>
        <p:spPr>
          <a:xfrm rot="5400000">
            <a:off x="5894640" y="1408680"/>
            <a:ext cx="392760" cy="753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5" name="Curved Connector 7"/>
          <p:cNvCxnSpPr>
            <a:stCxn id="53" idx="2"/>
          </p:cNvCxnSpPr>
          <p:nvPr/>
        </p:nvCxnSpPr>
        <p:spPr>
          <a:xfrm rot="5400000">
            <a:off x="4408920" y="608760"/>
            <a:ext cx="1078200" cy="3039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sp>
        <p:nvSpPr>
          <p:cNvPr id="56" name="TextBox 14"/>
          <p:cNvSpPr/>
          <p:nvPr/>
        </p:nvSpPr>
        <p:spPr>
          <a:xfrm>
            <a:off x="6413400" y="40384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member”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urved Connector 7"/>
          <p:cNvCxnSpPr>
            <a:stCxn id="56" idx="0"/>
          </p:cNvCxnSpPr>
          <p:nvPr/>
        </p:nvCxnSpPr>
        <p:spPr>
          <a:xfrm flipV="1" rot="16200000">
            <a:off x="6638400" y="3190320"/>
            <a:ext cx="762480" cy="93420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8" name="Curved Connector 7"/>
          <p:cNvCxnSpPr>
            <a:stCxn id="56" idx="0"/>
          </p:cNvCxnSpPr>
          <p:nvPr/>
        </p:nvCxnSpPr>
        <p:spPr>
          <a:xfrm flipV="1" rot="16200000">
            <a:off x="5609880" y="2161440"/>
            <a:ext cx="457920" cy="329616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fl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release (IdxDbMgr itself not being locked in the first pl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bgd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ut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can go on during releasing an index or a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is ”delta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ny modifications not yet committed to th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tions (aka ”insert buffer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se are in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an be lost – need for regular flush (performed by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ld Machinery (obsole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fore a search, it committed the delta, long waiting because of costly file i/o + clucene me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s were always up to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were inherently slow 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merged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ots of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isted until r15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Machin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happen on current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do not care about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ta is committed to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explicit call to flush(), or close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housekeeping (regular operation in s60 ser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icitly, during add() operation, if the insert buffer grows beyond a preset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≠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lled IdxDb2 until r1529, after that, 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rations and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r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and fetching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, deleting, updating, flushing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is not a search but can result in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rations with possible file i/o on master thread (client API)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/searcher opening and rele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. Idxdbdelta.h / cpp: class IdxDb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sted by cpixunittests suite ”whitebox/del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erforms steps using the disk as intermediate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crash / phone shutdown as much state is left on disk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restart, as much is recovered as conceptually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oading an index for search may need to continue with merging the intermediate stuff foun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fore loading an index and committing delta needs to be prepared for taking the very sa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MergeOnDisk_() in idxdbdelta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erforms (almost) all of the delta-commi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horse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(lmost a)ll public cpix_XXX structs have very similar layout: struct { void * ptr_; cpix_Error * err_; 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macros and C++ templates can treat them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505320" y="4114800"/>
            <a:ext cx="205740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API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867280" y="4114800"/>
            <a:ext cx="2057400" cy="24382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: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or C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219320" y="4114800"/>
            <a:ext cx="2057400" cy="24382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886200" y="4724280"/>
            <a:ext cx="1295280" cy="9144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cpix_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pt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er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371600" y="4724280"/>
            <a:ext cx="1676520" cy="4572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cpix_Foo * p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095880" y="4724280"/>
            <a:ext cx="1600200" cy="91440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lucene::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urved Connector 14"/>
          <p:cNvCxnSpPr>
            <a:stCxn id="65" idx="3"/>
          </p:cNvCxnSpPr>
          <p:nvPr/>
        </p:nvCxnSpPr>
        <p:spPr>
          <a:xfrm flipV="1">
            <a:off x="3048120" y="4723560"/>
            <a:ext cx="838800" cy="229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urved Connector 16"/>
          <p:cNvCxnSpPr/>
          <p:nvPr/>
        </p:nvCxnSpPr>
        <p:spPr>
          <a:xfrm flipV="1">
            <a:off x="4419720" y="4723920"/>
            <a:ext cx="1676880" cy="457920"/>
          </a:xfrm>
          <a:prstGeom prst="curvedConnector5">
            <a:avLst>
              <a:gd name="adj1" fmla="val 49989"/>
              <a:gd name="adj2" fmla="val 49960"/>
              <a:gd name="adj3" fmla="val 49989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 directory: root/fil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urrent clucene (sub)directory: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instance uses clucene idx di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1 – committing del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does something in dir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root/file/_dels.mrk is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know, even after restart, that delta had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2 – committing insert buffer (RA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ibuf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3 – committed insert buffer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tmp/ renamed to _ibufdon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done is a valid clucene index dir, containing our insert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have the both deletions and the insert buffer, that is the whole delta is on disk: ALL information is recov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4 – merging current and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merge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5 – merged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_0newer.mrk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mergetmp/ renamed to _0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1" lang="fi-FI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, we wouldn’t even have to re-merge, as the merged version is there (_0/) and we have the marker file telling which one is the newer, _0/ o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6 – switching from old 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IndexReader to new (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wapping the current/old IndexReader instance (still using _1/) with the new one (using 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stroying old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swap operation is ”conceptually” the only point where the indexing slave thread has to block (via mutexes) the searcher slave thread, but pointer swapping operations are safe and f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practice, it’s more complex (directories have to be protected to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7 – cleaning up cpix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marker files (_dels.mrk, _0newer.mrk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temporary and old clucene directories (_1/, _ibufdone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started with a reader using root/file/_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have now a reader using root/file/_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ime we switch from _0/ to _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2 – STEP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re the commont part sequence required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ed by MergeOnDisk_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f IdxDb.cpp, VersionedReader::reopen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we are switching from _0/ to _1/, then the marker file is _1newer.m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Hits lifetime, 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IndexReaders vs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API 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cuments returned by hits are owned by the reader they originate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destroying the reader will destroy thos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umerating hit documents and updating/closing an index is probl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ying to browse a document that was already deleted would crash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ypes of quer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me query types are implemented by Cpix (e.g. Terms qu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term query hits are owned by Cpix layer, and are thus independent of clucene reader instance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ue/vanilla queries are implemented by Cluc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se are the problematic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ing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es not depend on reader once a search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pends on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105520" y="4724280"/>
            <a:ext cx="175248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95880" y="388620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s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6095880" y="3048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I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010280" y="4724280"/>
            <a:ext cx="175284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sosceles Triangle 7"/>
          <p:cNvSpPr/>
          <p:nvPr/>
        </p:nvSpPr>
        <p:spPr>
          <a:xfrm>
            <a:off x="6858000" y="3429000"/>
            <a:ext cx="22860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sosceles Triangle 16"/>
          <p:cNvSpPr/>
          <p:nvPr/>
        </p:nvSpPr>
        <p:spPr>
          <a:xfrm>
            <a:off x="6858000" y="4267080"/>
            <a:ext cx="2286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Elbow Connector 17"/>
          <p:cNvCxnSpPr>
            <a:stCxn id="318" idx="3"/>
            <a:endCxn id="313" idx="0"/>
          </p:cNvCxnSpPr>
          <p:nvPr/>
        </p:nvCxnSpPr>
        <p:spPr>
          <a:xfrm rot="5400000">
            <a:off x="6324120" y="4076640"/>
            <a:ext cx="305280" cy="99144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20" name="Elbow Connector 19"/>
          <p:cNvCxnSpPr>
            <a:stCxn id="318" idx="3"/>
            <a:endCxn id="316" idx="0"/>
          </p:cNvCxnSpPr>
          <p:nvPr/>
        </p:nvCxnSpPr>
        <p:spPr>
          <a:xfrm flipH="1" rot="16200000">
            <a:off x="7277400" y="4114440"/>
            <a:ext cx="305280" cy="91512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21" name="Rectangle 22"/>
          <p:cNvSpPr/>
          <p:nvPr/>
        </p:nvSpPr>
        <p:spPr>
          <a:xfrm>
            <a:off x="6095880" y="1905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_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iamond 23"/>
          <p:cNvSpPr/>
          <p:nvPr/>
        </p:nvSpPr>
        <p:spPr>
          <a:xfrm>
            <a:off x="6858000" y="2286000"/>
            <a:ext cx="228600" cy="2286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25"/>
          <p:cNvSpPr/>
          <p:nvPr/>
        </p:nvSpPr>
        <p:spPr>
          <a:xfrm flipH="1">
            <a:off x="6970320" y="2516040"/>
            <a:ext cx="324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7"/>
          <p:cNvSpPr/>
          <p:nvPr/>
        </p:nvSpPr>
        <p:spPr>
          <a:xfrm flipH="1">
            <a:off x="6970320" y="3583080"/>
            <a:ext cx="324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352680" y="1676520"/>
            <a:ext cx="2286000" cy="49528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intern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019920" y="1676520"/>
            <a:ext cx="2286000" cy="49528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914400" y="1676520"/>
            <a:ext cx="2286000" cy="49528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914400" y="1219320"/>
            <a:ext cx="228600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WR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352680" y="1219320"/>
            <a:ext cx="495324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”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90720" y="1752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990720" y="2514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990720" y="2895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90720" y="3276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990720" y="4038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990720" y="4419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990720" y="4800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990720" y="5181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6095880" y="1752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3429000" y="2133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Snowball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6095880" y="2514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6095880" y="2895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6095880" y="3276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6095880" y="4038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6095880" y="4419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095880" y="4800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095880" y="5181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990720" y="5562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429000" y="5562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095880" y="55627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324480" y="57913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6629400" y="60199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Elbow Connector 34"/>
          <p:cNvCxnSpPr>
            <a:stCxn id="75" idx="3"/>
          </p:cNvCxnSpPr>
          <p:nvPr/>
        </p:nvCxnSpPr>
        <p:spPr>
          <a:xfrm>
            <a:off x="3123720" y="1905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Elbow Connector 36"/>
          <p:cNvCxnSpPr>
            <a:endCxn id="84" idx="1"/>
          </p:cNvCxnSpPr>
          <p:nvPr/>
        </p:nvCxnSpPr>
        <p:spPr>
          <a:xfrm rot="5400000">
            <a:off x="3314520" y="2095200"/>
            <a:ext cx="305640" cy="76680"/>
          </a:xfrm>
          <a:prstGeom prst="bentConnector4">
            <a:avLst>
              <a:gd name="adj1" fmla="val 25000"/>
              <a:gd name="adj2" fmla="val 401415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Elbow Connector 39"/>
          <p:cNvCxnSpPr>
            <a:stCxn id="76" idx="3"/>
            <a:endCxn id="100" idx="1"/>
          </p:cNvCxnSpPr>
          <p:nvPr/>
        </p:nvCxnSpPr>
        <p:spPr>
          <a:xfrm>
            <a:off x="3123720" y="2666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Elbow Connector 42"/>
          <p:cNvCxnSpPr>
            <a:stCxn id="77" idx="3"/>
            <a:endCxn id="86" idx="1"/>
          </p:cNvCxnSpPr>
          <p:nvPr/>
        </p:nvCxnSpPr>
        <p:spPr>
          <a:xfrm>
            <a:off x="3123720" y="3048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2" name="Elbow Connector 45"/>
          <p:cNvCxnSpPr>
            <a:stCxn id="78" idx="3"/>
            <a:endCxn id="103" idx="1"/>
          </p:cNvCxnSpPr>
          <p:nvPr/>
        </p:nvCxnSpPr>
        <p:spPr>
          <a:xfrm>
            <a:off x="3123720" y="3429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4" name="Elbow Connector 48"/>
          <p:cNvCxnSpPr>
            <a:stCxn id="79" idx="3"/>
            <a:endCxn id="105" idx="1"/>
          </p:cNvCxnSpPr>
          <p:nvPr/>
        </p:nvCxnSpPr>
        <p:spPr>
          <a:xfrm>
            <a:off x="3123720" y="4191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Elbow Connector 51"/>
          <p:cNvCxnSpPr>
            <a:stCxn id="80" idx="3"/>
            <a:endCxn id="107" idx="1"/>
          </p:cNvCxnSpPr>
          <p:nvPr/>
        </p:nvCxnSpPr>
        <p:spPr>
          <a:xfrm>
            <a:off x="3123720" y="4572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Elbow Connector 54"/>
          <p:cNvCxnSpPr>
            <a:stCxn id="81" idx="3"/>
            <a:endCxn id="109" idx="1"/>
          </p:cNvCxnSpPr>
          <p:nvPr/>
        </p:nvCxnSpPr>
        <p:spPr>
          <a:xfrm>
            <a:off x="3123720" y="4952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0" name="Elbow Connector 57"/>
          <p:cNvCxnSpPr>
            <a:stCxn id="82" idx="3"/>
            <a:endCxn id="91" idx="1"/>
          </p:cNvCxnSpPr>
          <p:nvPr/>
        </p:nvCxnSpPr>
        <p:spPr>
          <a:xfrm>
            <a:off x="3123720" y="5334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1" name="Elbow Connector 60"/>
          <p:cNvCxnSpPr>
            <a:stCxn id="92" idx="3"/>
            <a:endCxn id="93" idx="1"/>
          </p:cNvCxnSpPr>
          <p:nvPr/>
        </p:nvCxnSpPr>
        <p:spPr>
          <a:xfrm>
            <a:off x="3123720" y="5715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Elbow Connector 63"/>
          <p:cNvCxnSpPr>
            <a:stCxn id="93" idx="3"/>
            <a:endCxn id="94" idx="1"/>
          </p:cNvCxnSpPr>
          <p:nvPr/>
        </p:nvCxnSpPr>
        <p:spPr>
          <a:xfrm>
            <a:off x="5562360" y="5715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3" name="TextBox 40"/>
          <p:cNvSpPr/>
          <p:nvPr/>
        </p:nvSpPr>
        <p:spPr>
          <a:xfrm>
            <a:off x="3429000" y="3276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Lucene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3"/>
          <p:cNvSpPr/>
          <p:nvPr/>
        </p:nvSpPr>
        <p:spPr>
          <a:xfrm>
            <a:off x="3429000" y="3657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Docum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Elbow Connector 44"/>
          <p:cNvCxnSpPr>
            <a:stCxn id="78" idx="3"/>
            <a:endCxn id="113" idx="1"/>
          </p:cNvCxnSpPr>
          <p:nvPr/>
        </p:nvCxnSpPr>
        <p:spPr>
          <a:xfrm>
            <a:off x="3123720" y="342900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Elbow Connector 49"/>
          <p:cNvCxnSpPr>
            <a:stCxn id="103" idx="3"/>
            <a:endCxn id="87" idx="1"/>
          </p:cNvCxnSpPr>
          <p:nvPr/>
        </p:nvCxnSpPr>
        <p:spPr>
          <a:xfrm>
            <a:off x="5562360" y="3429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6" name="TextBox 46"/>
          <p:cNvSpPr/>
          <p:nvPr/>
        </p:nvSpPr>
        <p:spPr>
          <a:xfrm>
            <a:off x="990720" y="5943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3429000" y="5943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Multi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Elbow Connector 50"/>
          <p:cNvCxnSpPr>
            <a:stCxn id="116" idx="3"/>
            <a:endCxn id="117" idx="1"/>
          </p:cNvCxnSpPr>
          <p:nvPr/>
        </p:nvCxnSpPr>
        <p:spPr>
          <a:xfrm>
            <a:off x="3123720" y="6095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Elbow Connector 55"/>
          <p:cNvCxnSpPr>
            <a:stCxn id="116" idx="3"/>
            <a:endCxn id="93" idx="1"/>
          </p:cNvCxnSpPr>
          <p:nvPr/>
        </p:nvCxnSpPr>
        <p:spPr>
          <a:xfrm flipV="1">
            <a:off x="3123720" y="571464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0" name="Elbow Connector 61"/>
          <p:cNvCxnSpPr>
            <a:stCxn id="117" idx="0"/>
            <a:endCxn id="93" idx="2"/>
          </p:cNvCxnSpPr>
          <p:nvPr/>
        </p:nvCxnSpPr>
        <p:spPr>
          <a:xfrm flipH="1" flipV="1" rot="5400000">
            <a:off x="4456800" y="5904720"/>
            <a:ext cx="76680" cy="39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1" name="TextBox 53"/>
          <p:cNvSpPr/>
          <p:nvPr/>
        </p:nvSpPr>
        <p:spPr>
          <a:xfrm>
            <a:off x="3429000" y="1752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ustom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Elbow Connector 36"/>
          <p:cNvCxnSpPr>
            <a:stCxn id="121" idx="3"/>
            <a:endCxn id="83" idx="1"/>
          </p:cNvCxnSpPr>
          <p:nvPr/>
        </p:nvCxnSpPr>
        <p:spPr>
          <a:xfrm>
            <a:off x="5562360" y="1905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3" name="TextBox 66"/>
          <p:cNvSpPr/>
          <p:nvPr/>
        </p:nvSpPr>
        <p:spPr>
          <a:xfrm>
            <a:off x="6095880" y="2133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Elbow Connector 36"/>
          <p:cNvCxnSpPr>
            <a:endCxn id="123" idx="1"/>
          </p:cNvCxnSpPr>
          <p:nvPr/>
        </p:nvCxnSpPr>
        <p:spPr>
          <a:xfrm>
            <a:off x="5562360" y="19051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0" name="TextBox 58"/>
          <p:cNvSpPr/>
          <p:nvPr/>
        </p:nvSpPr>
        <p:spPr>
          <a:xfrm>
            <a:off x="3429000" y="2514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Qry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64"/>
          <p:cNvCxnSpPr>
            <a:stCxn id="100" idx="3"/>
            <a:endCxn id="85" idx="1"/>
          </p:cNvCxnSpPr>
          <p:nvPr/>
        </p:nvCxnSpPr>
        <p:spPr>
          <a:xfrm>
            <a:off x="5562360" y="2666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5" name="TextBox 70"/>
          <p:cNvSpPr/>
          <p:nvPr/>
        </p:nvSpPr>
        <p:spPr>
          <a:xfrm>
            <a:off x="3429000" y="4038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Elbow Connector 72"/>
          <p:cNvCxnSpPr>
            <a:stCxn id="105" idx="3"/>
            <a:endCxn id="88" idx="1"/>
          </p:cNvCxnSpPr>
          <p:nvPr/>
        </p:nvCxnSpPr>
        <p:spPr>
          <a:xfrm>
            <a:off x="5562360" y="4191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7" name="TextBox 76"/>
          <p:cNvSpPr/>
          <p:nvPr/>
        </p:nvSpPr>
        <p:spPr>
          <a:xfrm>
            <a:off x="3429000" y="4419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Elbow Connector 77"/>
          <p:cNvCxnSpPr>
            <a:stCxn id="107" idx="3"/>
            <a:endCxn id="89" idx="1"/>
          </p:cNvCxnSpPr>
          <p:nvPr/>
        </p:nvCxnSpPr>
        <p:spPr>
          <a:xfrm>
            <a:off x="5562360" y="4572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9" name="TextBox 81"/>
          <p:cNvSpPr/>
          <p:nvPr/>
        </p:nvSpPr>
        <p:spPr>
          <a:xfrm>
            <a:off x="3429000" y="4800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Elbow Connector 82"/>
          <p:cNvCxnSpPr>
            <a:stCxn id="109" idx="3"/>
            <a:endCxn id="90" idx="1"/>
          </p:cNvCxnSpPr>
          <p:nvPr/>
        </p:nvCxnSpPr>
        <p:spPr>
          <a:xfrm>
            <a:off x="5562360" y="4952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 and MultiIdxDb have versio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every reader closure, they increa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Hits stores the version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commits if the reader has changed/cl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 pre/re-fetches multipl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clones them and stores them internally (p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ublic doc enumeration first tries fetching cpix-owned clone from current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/recommit must acquire all locks on all involved indexes (potentially very s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Outstanding Bugs (r153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ecuting robustnesstests on 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ems like s60 responses can be lost (??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with widget right after install/reboot (when harvesting is just starting up) with urel and no SIM cards inse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adlock (???)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ative (Cpix) vs native (luce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all cpix_XXX objects wrapped directly clucen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ith time, nearly everything got wrapped to add Cpix specific functi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alyzers: syntax driven analyzer construction, queries: unified queries, hits: hits originating from clucene queries and e.g. term queries (ownership differences), Field/Document/Enum: aggregator flag, index database: proper reader/searcher/writ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5:06Z</dcterms:created>
  <dc:creator>admin</dc:creator>
  <dc:description/>
  <dc:language>en-US</dc:language>
  <cp:lastModifiedBy>admin</cp:lastModifiedBy>
  <dcterms:modified xsi:type="dcterms:W3CDTF">2009-12-10T15:05:59Z</dcterms:modified>
  <cp:revision>493</cp:revision>
  <dc:subject/>
  <dc:title>Slide 1</dc:title>
</cp:coreProperties>
</file>