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62E46-2FBE-43D1-A7FB-A51EBC4FEE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F814-6FA4-4564-8E4F-0E366FEC9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4EFDB-E185-4A97-8666-6A52BE7E94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FC670-A63E-47C9-979E-B2A499EE21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593F4-7DD5-4612-B9D7-AADEDDED7B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0036F-B741-40DA-9510-32DCE7522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641F-DDAE-4A93-82AE-EC46756E3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4F68F-C77A-464C-8279-240FF6A5F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E514-575E-441E-8399-B5AE2044F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7461D7-5389-4EA8-8D80-A106FD235F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C3429-EAB1-47E4-9CB7-98483B285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F8150-C2BA-4EAD-8D4E-B6A4619B9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A38C4-747C-4C3C-8206-E1CA1A809D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6324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1 (K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6095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2 (K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429000" y="58672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29000" y="56386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4 (K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429000" y="5410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5 (K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429000" y="4191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5 (B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429000" y="44197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4 (B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3429000" y="46483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429000" y="4876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2 (B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429000" y="5105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1 (B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3429000" y="29718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5 (O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429000" y="32004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4 (O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29000" y="342900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429000" y="36576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2 (O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3429000" y="388620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1 (O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3429000" y="17524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5 (AS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429000" y="19810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4 (AS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429000" y="220968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429000" y="24382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2 (AS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429000" y="266688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1 (AS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429000" y="5335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5 (UFD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3429000" y="7621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4 (UFD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429000" y="9907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29000" y="12193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2 (UFD2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29000" y="1447920"/>
            <a:ext cx="342900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1 (UFD1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3807000" y="152280"/>
            <a:ext cx="253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-up Domain Hierarchy (SuDH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381960" y="5715000"/>
            <a:ext cx="48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y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7200" y="6019920"/>
            <a:ext cx="266688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sed SuDH Domai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6324480"/>
            <a:ext cx="2666880" cy="2286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nused SuDH Domain (at pres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429000" y="16765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3429000" y="289548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3429000" y="4114800"/>
            <a:ext cx="3429000" cy="7632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334120"/>
            <a:ext cx="3429000" cy="75960"/>
          </a:xfrm>
          <a:prstGeom prst="rect">
            <a:avLst/>
          </a:prstGeom>
          <a:solidFill>
            <a:srgbClr val="f7efa7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7162920" y="533520"/>
            <a:ext cx="304560" cy="5943600"/>
          </a:xfrm>
          <a:prstGeom prst="upArrow">
            <a:avLst>
              <a:gd name="adj1" fmla="val 50000"/>
              <a:gd name="adj2" fmla="val 48788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388280" y="3429000"/>
            <a:ext cx="10159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creas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pendenc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"/>
          <p:cNvSpPr/>
          <p:nvPr/>
        </p:nvSpPr>
        <p:spPr>
          <a:xfrm>
            <a:off x="2610000" y="493704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V="1">
            <a:off x="425124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2896920" y="2908440"/>
            <a:ext cx="26100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733920" y="477504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315520" y="3794040"/>
            <a:ext cx="8834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6901920" y="3657600"/>
            <a:ext cx="8679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038600" y="211788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857120" y="12826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5400000">
            <a:off x="3855960" y="-263664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3716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0481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3033000" y="431640"/>
            <a:ext cx="3090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7242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632448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162920" y="12193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1143000" y="83808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095880" y="83808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31255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6783120" y="9144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857120" y="326376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rot="5400000">
            <a:off x="3855960" y="-65556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3716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2096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30481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46483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3012480" y="2413080"/>
            <a:ext cx="313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est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48640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2448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162920" y="320040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143000" y="2819520"/>
            <a:ext cx="281952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4419720" y="2819520"/>
            <a:ext cx="3657600" cy="76176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3140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944680" y="28954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4857120" y="53974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 rot="5400000">
            <a:off x="3855960" y="1477800"/>
            <a:ext cx="150804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1371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2096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0481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26708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2840040" y="4546440"/>
            <a:ext cx="348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Emulator</a:t>
            </a: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1055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16292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4952880"/>
            <a:ext cx="28195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58000" y="4952880"/>
            <a:ext cx="12193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2111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10660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943600" y="533412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7267320" y="502920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4114800" y="4952880"/>
            <a:ext cx="259092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"/>
          <p:cNvSpPr/>
          <p:nvPr/>
        </p:nvSpPr>
        <p:spPr>
          <a:xfrm flipV="1">
            <a:off x="4572000" y="188928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3750480" y="2057400"/>
            <a:ext cx="16984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Full Start-up Mo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857120" y="135900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rot="5400000">
            <a:off x="3855960" y="-2560680"/>
            <a:ext cx="1508400" cy="739152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3716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2096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30481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88620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3030120" y="507960"/>
            <a:ext cx="3097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 for </a:t>
            </a: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Full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47242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632448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md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8153280" y="2803680"/>
            <a:ext cx="838440" cy="1066680"/>
            <a:chOff x="8153280" y="2803680"/>
            <a:chExt cx="838440" cy="1066680"/>
          </a:xfrm>
        </p:grpSpPr>
        <p:sp>
          <p:nvSpPr>
            <p:cNvPr id="310" name=""/>
            <p:cNvSpPr/>
            <p:nvPr/>
          </p:nvSpPr>
          <p:spPr>
            <a:xfrm>
              <a:off x="8153280" y="356580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8153280" y="3870360"/>
              <a:ext cx="3049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8458200" y="3032280"/>
              <a:ext cx="0" cy="8380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8429760" y="2803680"/>
              <a:ext cx="560160" cy="246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reate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8458200" y="3032280"/>
              <a:ext cx="53352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7162920" y="129528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4876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35268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5909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9907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 flipV="1">
            <a:off x="15238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1752480" y="356544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66688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flipV="1">
            <a:off x="3200400" y="356544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429000" y="3565440"/>
            <a:ext cx="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1911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4648320" y="3565440"/>
            <a:ext cx="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 flipV="1">
            <a:off x="7924680" y="356508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4114800" y="5394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73152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05152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6248520" y="4632480"/>
            <a:ext cx="685800" cy="3045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3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051520" y="5013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4-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914400" y="387036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1-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1676520" y="4251240"/>
            <a:ext cx="685800" cy="3049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391520" y="35654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31720" y="55306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7162920" y="3565440"/>
            <a:ext cx="0" cy="22100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495288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6172200" y="3641760"/>
            <a:ext cx="914400" cy="21337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6273000" y="554688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ain 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4420080" y="6080040"/>
            <a:ext cx="9244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e chan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ques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6174360" y="608004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914400" y="2651040"/>
            <a:ext cx="7391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230040" y="287964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380880" y="310824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152280" y="310824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43000" y="914400"/>
            <a:ext cx="449568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095880" y="914400"/>
            <a:ext cx="1981440" cy="762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2977560" y="99072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12400" y="9907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n-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914400" y="6019920"/>
            <a:ext cx="39625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4876920" y="601992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2474280" y="6095880"/>
            <a:ext cx="875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itical st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440" y="4572000"/>
            <a:ext cx="307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542880" y="22860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048120" y="5335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3830760" y="22845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5950080" y="48830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5954760" y="23130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5959440" y="35942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313240" y="24541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6991200" y="974880"/>
            <a:ext cx="2004120" cy="4438440"/>
            <a:chOff x="6991200" y="974880"/>
            <a:chExt cx="2004120" cy="4438440"/>
          </a:xfrm>
        </p:grpSpPr>
        <p:sp>
          <p:nvSpPr>
            <p:cNvPr id="363" name=""/>
            <p:cNvSpPr/>
            <p:nvPr/>
          </p:nvSpPr>
          <p:spPr>
            <a:xfrm>
              <a:off x="6991200" y="9874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026120" y="10238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7004160" y="9748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7743240" y="1546200"/>
              <a:ext cx="125208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2) Connect to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 in th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7" name=""/>
          <p:cNvGrpSpPr/>
          <p:nvPr/>
        </p:nvGrpSpPr>
        <p:grpSpPr>
          <a:xfrm>
            <a:off x="1547640" y="1998720"/>
            <a:ext cx="2322720" cy="571320"/>
            <a:chOff x="1547640" y="1998720"/>
            <a:chExt cx="2322720" cy="571320"/>
          </a:xfrm>
        </p:grpSpPr>
        <p:sp>
          <p:nvSpPr>
            <p:cNvPr id="368" name=""/>
            <p:cNvSpPr/>
            <p:nvPr/>
          </p:nvSpPr>
          <p:spPr>
            <a:xfrm>
              <a:off x="1547640" y="2257560"/>
              <a:ext cx="2322720" cy="312480"/>
            </a:xfrm>
            <a:custGeom>
              <a:avLst/>
              <a:gdLst/>
              <a:ahLst/>
              <a:rect l="l" t="t" r="r" b="b"/>
              <a:pathLst>
                <a:path w="1463" h="197">
                  <a:moveTo>
                    <a:pt x="0" y="169"/>
                  </a:moveTo>
                  <a:cubicBezTo>
                    <a:pt x="253" y="84"/>
                    <a:pt x="506" y="0"/>
                    <a:pt x="750" y="5"/>
                  </a:cubicBezTo>
                  <a:cubicBezTo>
                    <a:pt x="994" y="10"/>
                    <a:pt x="1228" y="103"/>
                    <a:pt x="1463" y="197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976400" y="199872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4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0" name=""/>
          <p:cNvGrpSpPr/>
          <p:nvPr/>
        </p:nvGrpSpPr>
        <p:grpSpPr>
          <a:xfrm>
            <a:off x="1482840" y="3186000"/>
            <a:ext cx="4616280" cy="1871640"/>
            <a:chOff x="1482840" y="3186000"/>
            <a:chExt cx="4616280" cy="1871640"/>
          </a:xfrm>
        </p:grpSpPr>
        <p:sp>
          <p:nvSpPr>
            <p:cNvPr id="371" name=""/>
            <p:cNvSpPr/>
            <p:nvPr/>
          </p:nvSpPr>
          <p:spPr>
            <a:xfrm>
              <a:off x="1482840" y="3186000"/>
              <a:ext cx="4616280" cy="1871640"/>
            </a:xfrm>
            <a:custGeom>
              <a:avLst/>
              <a:gdLst/>
              <a:ahLst/>
              <a:rect l="l" t="t" r="r" b="b"/>
              <a:pathLst>
                <a:path w="2908" h="1179">
                  <a:moveTo>
                    <a:pt x="0" y="0"/>
                  </a:moveTo>
                  <a:cubicBezTo>
                    <a:pt x="667" y="199"/>
                    <a:pt x="1335" y="398"/>
                    <a:pt x="1820" y="594"/>
                  </a:cubicBezTo>
                  <a:cubicBezTo>
                    <a:pt x="2305" y="790"/>
                    <a:pt x="2606" y="984"/>
                    <a:pt x="2908" y="1179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046320" y="4172040"/>
              <a:ext cx="1532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Start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1295280" y="3301920"/>
            <a:ext cx="4687920" cy="2248200"/>
            <a:chOff x="1295280" y="3301920"/>
            <a:chExt cx="4687920" cy="2248200"/>
          </a:xfrm>
        </p:grpSpPr>
        <p:sp>
          <p:nvSpPr>
            <p:cNvPr id="374" name=""/>
            <p:cNvSpPr/>
            <p:nvPr/>
          </p:nvSpPr>
          <p:spPr>
            <a:xfrm>
              <a:off x="1295280" y="3301920"/>
              <a:ext cx="4687920" cy="1987560"/>
            </a:xfrm>
            <a:custGeom>
              <a:avLst/>
              <a:gdLst/>
              <a:ahLst/>
              <a:rect l="l" t="t" r="r" b="b"/>
              <a:pathLst>
                <a:path w="2953" h="1252">
                  <a:moveTo>
                    <a:pt x="2953" y="1252"/>
                  </a:moveTo>
                  <a:cubicBezTo>
                    <a:pt x="2376" y="1192"/>
                    <a:pt x="1799" y="1132"/>
                    <a:pt x="1307" y="923"/>
                  </a:cubicBezTo>
                  <a:cubicBezTo>
                    <a:pt x="815" y="714"/>
                    <a:pt x="407" y="357"/>
                    <a:pt x="0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2476080" y="5091120"/>
              <a:ext cx="2204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Startup finished indication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Rendezvous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5626080" y="1733400"/>
            <a:ext cx="1730520" cy="4411800"/>
            <a:chOff x="5626080" y="1733400"/>
            <a:chExt cx="1730520" cy="4411800"/>
          </a:xfrm>
        </p:grpSpPr>
        <p:sp>
          <p:nvSpPr>
            <p:cNvPr id="377" name=""/>
            <p:cNvSpPr/>
            <p:nvPr/>
          </p:nvSpPr>
          <p:spPr>
            <a:xfrm>
              <a:off x="5997960" y="1863720"/>
              <a:ext cx="986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parent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626080" y="1733400"/>
              <a:ext cx="1730520" cy="44118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9" name=""/>
          <p:cNvGrpSpPr/>
          <p:nvPr/>
        </p:nvGrpSpPr>
        <p:grpSpPr>
          <a:xfrm>
            <a:off x="3697200" y="1639800"/>
            <a:ext cx="1311480" cy="2298960"/>
            <a:chOff x="3697200" y="1639800"/>
            <a:chExt cx="1311480" cy="2298960"/>
          </a:xfrm>
        </p:grpSpPr>
        <p:sp>
          <p:nvSpPr>
            <p:cNvPr id="380" name=""/>
            <p:cNvSpPr/>
            <p:nvPr/>
          </p:nvSpPr>
          <p:spPr>
            <a:xfrm>
              <a:off x="3697200" y="1639800"/>
              <a:ext cx="1311480" cy="229896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892320" y="1855800"/>
              <a:ext cx="88776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child domain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3295080" y="1003320"/>
            <a:ext cx="1887480" cy="1725480"/>
            <a:chOff x="3295080" y="1003320"/>
            <a:chExt cx="1887480" cy="1725480"/>
          </a:xfrm>
        </p:grpSpPr>
        <p:sp>
          <p:nvSpPr>
            <p:cNvPr id="383" name=""/>
            <p:cNvSpPr/>
            <p:nvPr/>
          </p:nvSpPr>
          <p:spPr>
            <a:xfrm>
              <a:off x="4892760" y="100332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3295080" y="1052640"/>
              <a:ext cx="18874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nnect to Domain m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3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2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393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396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8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399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03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07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408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0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411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14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415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"/>
          <p:cNvSpPr/>
          <p:nvPr/>
        </p:nvSpPr>
        <p:spPr>
          <a:xfrm>
            <a:off x="2057400" y="48610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3763800" y="365760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3916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5059440" y="4572000"/>
            <a:ext cx="144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 flipV="1">
            <a:off x="3989520" y="2895120"/>
            <a:ext cx="144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3049560" y="38098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 flipH="1">
            <a:off x="2971800" y="4038480"/>
            <a:ext cx="79200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4299120" y="451008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 rot="5400000">
            <a:off x="4152960" y="217152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4043880" y="257796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1876320" y="3886200"/>
            <a:ext cx="1017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3478320" y="4851360"/>
            <a:ext cx="30456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893320" y="31240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/>
          </p:nvPr>
        </p:nvSpPr>
        <p:spPr>
          <a:xfrm>
            <a:off x="533520" y="960120"/>
            <a:ext cx="8229600" cy="559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457200" y="2049480"/>
            <a:ext cx="457200" cy="4016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80880" y="34210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380880" y="4792680"/>
            <a:ext cx="6098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2209680" y="1287360"/>
            <a:ext cx="1752840" cy="381024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1371600" y="1135080"/>
            <a:ext cx="8380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14600" y="174456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514600" y="2811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14600" y="3954600"/>
            <a:ext cx="1143000" cy="9144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590920" y="18972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2590920" y="20494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590920" y="22017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2590920" y="23544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2590920" y="25066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2590920" y="4564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2590920" y="2963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2590920" y="3116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2590920" y="3268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2590920" y="34210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2590920" y="3573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2590920" y="410688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2590920" y="42591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2590920" y="441180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2590920" y="4716360"/>
            <a:ext cx="99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4876920" y="1843200"/>
            <a:ext cx="1218960" cy="5331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2211840" y="1363680"/>
            <a:ext cx="1722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382320" y="5630760"/>
            <a:ext cx="5875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t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990720" y="5249880"/>
            <a:ext cx="1828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icensee-allocated startup modes in 1024 block ran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 flipH="1" flipV="1">
            <a:off x="914400" y="4259160"/>
            <a:ext cx="4572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 flipH="1" flipV="1">
            <a:off x="914400" y="2658600"/>
            <a:ext cx="457200" cy="2590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 flipH="1" flipV="1">
            <a:off x="914400" y="509724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4308840" y="2658960"/>
            <a:ext cx="1338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up Stat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.g. Critical Dynam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 flipH="1" flipV="1">
            <a:off x="3657240" y="2811240"/>
            <a:ext cx="68580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1799280" y="1042920"/>
            <a:ext cx="109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SSC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657600" y="2049480"/>
            <a:ext cx="1219320" cy="22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3963240" y="1744560"/>
            <a:ext cx="554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vok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6781680" y="3170160"/>
            <a:ext cx="1905120" cy="21337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7162920" y="3551400"/>
            <a:ext cx="1143000" cy="1546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7238880" y="37036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7238880" y="38559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7238880" y="40086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7238880" y="41608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7238880" y="43131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7238880" y="461808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7238880" y="477036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>
            <a:off x="7238880" y="49230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784200" y="3246480"/>
            <a:ext cx="1899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6095880" y="2278080"/>
            <a:ext cx="68580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5792760" y="3040200"/>
            <a:ext cx="94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cess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238880" y="4465800"/>
            <a:ext cx="99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4116240" y="4548240"/>
            <a:ext cx="1727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mand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with associated propertie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 flipV="1">
            <a:off x="3581280" y="4258800"/>
            <a:ext cx="9907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 flipV="1">
            <a:off x="5257800" y="3855600"/>
            <a:ext cx="1981080" cy="708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7162920" y="159228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7162920" y="2430360"/>
            <a:ext cx="1066680" cy="2286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 flipV="1">
            <a:off x="716292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 flipV="1">
            <a:off x="8229600" y="1668600"/>
            <a:ext cx="0" cy="838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7317720" y="1973160"/>
            <a:ext cx="7840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SC Sto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 flipH="1">
            <a:off x="6095880" y="2125800"/>
            <a:ext cx="1067040" cy="21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4840" bIns="-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6250320" y="1820880"/>
            <a:ext cx="68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DS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457200" y="601560"/>
            <a:ext cx="1295280" cy="53352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 flipV="1">
            <a:off x="838080" y="1134720"/>
            <a:ext cx="0" cy="106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822960" y="1440000"/>
            <a:ext cx="8618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t Startu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de ‘0’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85720" y="2049480"/>
            <a:ext cx="250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458280" y="31161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458280" y="34974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2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458280" y="448776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7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458280" y="4869000"/>
            <a:ext cx="461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204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 flipH="1">
            <a:off x="3657240" y="2833560"/>
            <a:ext cx="68580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2514600" y="762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Services-Domain 3 (K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514600" y="1905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ervices-Domain 3 (B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2514600" y="3048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S Services-Domain 3 (O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514600" y="4191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pplication Services-Domain 3 (AS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514600" y="5334120"/>
            <a:ext cx="3429000" cy="2286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UI-Framework-Domain 3 (UFD3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4191120" y="990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191120" y="2133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4191120" y="4419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91120" y="327672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336200" y="1066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358520" y="2209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358520" y="3352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336200" y="4495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336200" y="5638680"/>
            <a:ext cx="264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Initial state: EStartupStateUndefin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imeout    : 1000000 (1000ms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103320" y="456876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752480" y="35179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038480" y="3517920"/>
            <a:ext cx="205740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858000" y="3517920"/>
            <a:ext cx="1447920" cy="91440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MA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rot="5400000">
            <a:off x="4381560" y="2031840"/>
            <a:ext cx="380880" cy="106704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rot="5400000">
            <a:off x="4533480" y="171432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5400000">
            <a:off x="4685760" y="1409760"/>
            <a:ext cx="38124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905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048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19112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010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153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6019920" y="443232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019920" y="473724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6324480" y="3898800"/>
            <a:ext cx="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867280" y="44323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426708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928960" y="2908440"/>
            <a:ext cx="257508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t correct 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ased on the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V="1">
            <a:off x="7086600" y="2755440"/>
            <a:ext cx="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354480" y="37465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96040" y="367020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6324480" y="389880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9751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27520" y="2070000"/>
            <a:ext cx="176580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tic Start-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r Full  Start-up Mo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4399920" y="2438280"/>
            <a:ext cx="4183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ul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2557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3929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878360" y="43704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895480" y="2133720"/>
            <a:ext cx="1295640" cy="457200"/>
          </a:xfrm>
          <a:custGeom>
            <a:avLst/>
            <a:gdLst/>
            <a:ahLst/>
            <a:rect l="l" t="t" r="r" b="b"/>
            <a:pathLst>
              <a:path w="816" h="288">
                <a:moveTo>
                  <a:pt x="0" y="96"/>
                </a:moveTo>
                <a:cubicBezTo>
                  <a:pt x="52" y="48"/>
                  <a:pt x="104" y="0"/>
                  <a:pt x="240" y="32"/>
                </a:cubicBezTo>
                <a:cubicBezTo>
                  <a:pt x="376" y="64"/>
                  <a:pt x="720" y="253"/>
                  <a:pt x="816" y="28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388760" y="2133720"/>
            <a:ext cx="72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ulato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4649400" y="1828800"/>
            <a:ext cx="462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e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rot="5400000">
            <a:off x="7200360" y="2031840"/>
            <a:ext cx="380880" cy="1066680"/>
          </a:xfrm>
          <a:prstGeom prst="rect">
            <a:avLst/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137720" y="2438280"/>
            <a:ext cx="579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aul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3733920"/>
            <a:ext cx="826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Kernel sta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71600" y="396252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1523880" y="455940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5990400" y="2895480"/>
            <a:ext cx="216036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Dynamic Startup Configur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fined in SSC comma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5486400" y="43434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4267080" y="4343400"/>
            <a:ext cx="106704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S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352680" y="3429000"/>
            <a:ext cx="5562720" cy="236232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734720" y="3595680"/>
            <a:ext cx="2881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mber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228600" y="2895480"/>
            <a:ext cx="28195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rt-up Domain Hierarch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ate Controll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(System Star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244520" y="1562040"/>
            <a:ext cx="2641680" cy="1333440"/>
          </a:xfrm>
          <a:custGeom>
            <a:avLst/>
            <a:gdLst/>
            <a:ahLst/>
            <a:rect l="l" t="t" r="r" b="b"/>
            <a:pathLst>
              <a:path w="1520" h="840">
                <a:moveTo>
                  <a:pt x="1520" y="120"/>
                </a:moveTo>
                <a:cubicBezTo>
                  <a:pt x="984" y="60"/>
                  <a:pt x="448" y="0"/>
                  <a:pt x="224" y="120"/>
                </a:cubicBezTo>
                <a:cubicBezTo>
                  <a:pt x="0" y="240"/>
                  <a:pt x="88" y="540"/>
                  <a:pt x="176" y="84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"/>
          <p:cNvGrpSpPr/>
          <p:nvPr/>
        </p:nvGrpSpPr>
        <p:grpSpPr>
          <a:xfrm>
            <a:off x="3886200" y="609480"/>
            <a:ext cx="4495680" cy="2819520"/>
            <a:chOff x="3886200" y="609480"/>
            <a:chExt cx="4495680" cy="2819520"/>
          </a:xfrm>
        </p:grpSpPr>
        <p:sp>
          <p:nvSpPr>
            <p:cNvPr id="135" name=""/>
            <p:cNvSpPr/>
            <p:nvPr/>
          </p:nvSpPr>
          <p:spPr>
            <a:xfrm>
              <a:off x="3886200" y="1295280"/>
              <a:ext cx="4495680" cy="9144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Domain Manage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3886200" y="609480"/>
              <a:ext cx="4495680" cy="6858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Start-up Domain Hierarchy Policy Plugi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domainPolicy2.dll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172200" y="2209680"/>
              <a:ext cx="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" name=""/>
          <p:cNvSpPr/>
          <p:nvPr/>
        </p:nvSpPr>
        <p:spPr>
          <a:xfrm>
            <a:off x="6691320" y="460836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228600" y="277020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yste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3516480" y="2768760"/>
            <a:ext cx="1066680" cy="10666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5635800" y="5367240"/>
            <a:ext cx="1066680" cy="1067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640480" y="279720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645160" y="4078440"/>
            <a:ext cx="1066680" cy="10666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998960" y="293832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5683320" y="2347920"/>
            <a:ext cx="986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ent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6" name=""/>
          <p:cNvGrpSpPr/>
          <p:nvPr/>
        </p:nvGrpSpPr>
        <p:grpSpPr>
          <a:xfrm>
            <a:off x="1057320" y="1155600"/>
            <a:ext cx="1768320" cy="1708200"/>
            <a:chOff x="1057320" y="1155600"/>
            <a:chExt cx="1768320" cy="1708200"/>
          </a:xfrm>
        </p:grpSpPr>
        <p:sp>
          <p:nvSpPr>
            <p:cNvPr id="147" name=""/>
            <p:cNvSpPr/>
            <p:nvPr/>
          </p:nvSpPr>
          <p:spPr>
            <a:xfrm>
              <a:off x="1057320" y="1155600"/>
              <a:ext cx="1676160" cy="170820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130040" y="1689120"/>
              <a:ext cx="16956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6) Change of Startup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tate finish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"/>
          <p:cNvGrpSpPr/>
          <p:nvPr/>
        </p:nvGrpSpPr>
        <p:grpSpPr>
          <a:xfrm>
            <a:off x="672480" y="774720"/>
            <a:ext cx="2061360" cy="1981080"/>
            <a:chOff x="672480" y="774720"/>
            <a:chExt cx="2061360" cy="1981080"/>
          </a:xfrm>
        </p:grpSpPr>
        <p:sp>
          <p:nvSpPr>
            <p:cNvPr id="150" name=""/>
            <p:cNvSpPr/>
            <p:nvPr/>
          </p:nvSpPr>
          <p:spPr>
            <a:xfrm>
              <a:off x="672480" y="774720"/>
              <a:ext cx="1883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1) Change Startup Stat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752400" y="1003320"/>
              <a:ext cx="1981440" cy="1752480"/>
            </a:xfrm>
            <a:custGeom>
              <a:avLst/>
              <a:gdLst/>
              <a:ahLst/>
              <a:rect l="l" t="t" r="r" b="b"/>
              <a:pathLst>
                <a:path w="720" h="568">
                  <a:moveTo>
                    <a:pt x="0" y="568"/>
                  </a:moveTo>
                  <a:cubicBezTo>
                    <a:pt x="12" y="372"/>
                    <a:pt x="24" y="176"/>
                    <a:pt x="144" y="88"/>
                  </a:cubicBezTo>
                  <a:cubicBezTo>
                    <a:pt x="264" y="0"/>
                    <a:pt x="632" y="48"/>
                    <a:pt x="720" y="4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2" name=""/>
          <p:cNvGrpSpPr/>
          <p:nvPr/>
        </p:nvGrpSpPr>
        <p:grpSpPr>
          <a:xfrm>
            <a:off x="6664320" y="1459080"/>
            <a:ext cx="2168640" cy="4438440"/>
            <a:chOff x="6664320" y="1459080"/>
            <a:chExt cx="2168640" cy="4438440"/>
          </a:xfrm>
        </p:grpSpPr>
        <p:sp>
          <p:nvSpPr>
            <p:cNvPr id="153" name=""/>
            <p:cNvSpPr/>
            <p:nvPr/>
          </p:nvSpPr>
          <p:spPr>
            <a:xfrm>
              <a:off x="6664320" y="1471680"/>
              <a:ext cx="708120" cy="442584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699240" y="1508040"/>
              <a:ext cx="460440" cy="313380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6677280" y="145908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prstDash val="dash"/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7274520" y="2030400"/>
              <a:ext cx="1558440" cy="1006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3) Each compon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rovides a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cknowledge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7" name=""/>
          <p:cNvSpPr/>
          <p:nvPr/>
        </p:nvSpPr>
        <p:spPr>
          <a:xfrm>
            <a:off x="5311800" y="2217600"/>
            <a:ext cx="1730520" cy="44118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382920" y="2124000"/>
            <a:ext cx="1311480" cy="2298600"/>
          </a:xfrm>
          <a:prstGeom prst="ellipse">
            <a:avLst/>
          </a:prstGeom>
          <a:noFill/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578040" y="2340000"/>
            <a:ext cx="8877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hild doma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33840" y="1003320"/>
            <a:ext cx="4832280" cy="4572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omain Manag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5474520" y="1460520"/>
            <a:ext cx="1355760" cy="1066680"/>
            <a:chOff x="5474520" y="1460520"/>
            <a:chExt cx="1355760" cy="1066680"/>
          </a:xfrm>
        </p:grpSpPr>
        <p:sp>
          <p:nvSpPr>
            <p:cNvPr id="162" name=""/>
            <p:cNvSpPr/>
            <p:nvPr/>
          </p:nvSpPr>
          <p:spPr>
            <a:xfrm>
              <a:off x="547704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5474520" y="153648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2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4" name=""/>
          <p:cNvGrpSpPr/>
          <p:nvPr/>
        </p:nvGrpSpPr>
        <p:grpSpPr>
          <a:xfrm>
            <a:off x="1969560" y="1460520"/>
            <a:ext cx="1602360" cy="1555920"/>
            <a:chOff x="1969560" y="1460520"/>
            <a:chExt cx="1602360" cy="1555920"/>
          </a:xfrm>
        </p:grpSpPr>
        <p:sp>
          <p:nvSpPr>
            <p:cNvPr id="165" name=""/>
            <p:cNvSpPr/>
            <p:nvPr/>
          </p:nvSpPr>
          <p:spPr>
            <a:xfrm>
              <a:off x="3381480" y="1460520"/>
              <a:ext cx="190440" cy="1066680"/>
            </a:xfrm>
            <a:custGeom>
              <a:avLst/>
              <a:gdLst/>
              <a:ahLst/>
              <a:rect l="l" t="t" r="r" b="b"/>
              <a:pathLst>
                <a:path w="168" h="672">
                  <a:moveTo>
                    <a:pt x="24" y="0"/>
                  </a:moveTo>
                  <a:cubicBezTo>
                    <a:pt x="12" y="208"/>
                    <a:pt x="0" y="416"/>
                    <a:pt x="24" y="528"/>
                  </a:cubicBezTo>
                  <a:cubicBezTo>
                    <a:pt x="48" y="640"/>
                    <a:pt x="108" y="656"/>
                    <a:pt x="168" y="672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969560" y="2374920"/>
              <a:ext cx="13557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4) State change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notific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200" spc="-1" strike="noStrike">
                  <a:solidFill>
                    <a:srgbClr val="000000"/>
                  </a:solidFill>
                  <a:latin typeface="Arial"/>
                </a:rPr>
                <a:t>(via RProperty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2809800" y="1917720"/>
              <a:ext cx="533520" cy="457200"/>
            </a:xfrm>
            <a:custGeom>
              <a:avLst/>
              <a:gdLst/>
              <a:ahLst/>
              <a:rect l="l" t="t" r="r" b="b"/>
              <a:pathLst>
                <a:path w="336" h="288">
                  <a:moveTo>
                    <a:pt x="0" y="288"/>
                  </a:moveTo>
                  <a:cubicBezTo>
                    <a:pt x="20" y="192"/>
                    <a:pt x="40" y="96"/>
                    <a:pt x="96" y="48"/>
                  </a:cubicBezTo>
                  <a:cubicBezTo>
                    <a:pt x="152" y="0"/>
                    <a:pt x="244" y="0"/>
                    <a:pt x="336" y="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8" name=""/>
          <p:cNvGrpSpPr/>
          <p:nvPr/>
        </p:nvGrpSpPr>
        <p:grpSpPr>
          <a:xfrm>
            <a:off x="3465000" y="1509840"/>
            <a:ext cx="1863360" cy="3792600"/>
            <a:chOff x="3465000" y="1509840"/>
            <a:chExt cx="1863360" cy="3792600"/>
          </a:xfrm>
        </p:grpSpPr>
        <p:sp>
          <p:nvSpPr>
            <p:cNvPr id="169" name=""/>
            <p:cNvSpPr/>
            <p:nvPr/>
          </p:nvSpPr>
          <p:spPr>
            <a:xfrm>
              <a:off x="4584600" y="1509840"/>
              <a:ext cx="271440" cy="1725480"/>
            </a:xfrm>
            <a:custGeom>
              <a:avLst/>
              <a:gdLst/>
              <a:ahLst/>
              <a:rect l="l" t="t" r="r" b="b"/>
              <a:pathLst>
                <a:path w="446" h="2788">
                  <a:moveTo>
                    <a:pt x="375" y="0"/>
                  </a:moveTo>
                  <a:cubicBezTo>
                    <a:pt x="410" y="892"/>
                    <a:pt x="446" y="1784"/>
                    <a:pt x="384" y="2249"/>
                  </a:cubicBezTo>
                  <a:cubicBezTo>
                    <a:pt x="322" y="2714"/>
                    <a:pt x="161" y="2751"/>
                    <a:pt x="0" y="278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465000" y="4660920"/>
              <a:ext cx="186336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5) Component provides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an acknowledgement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 the state chang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511880" y="3136680"/>
              <a:ext cx="355320" cy="1599840"/>
            </a:xfrm>
            <a:custGeom>
              <a:avLst/>
              <a:gdLst/>
              <a:ahLst/>
              <a:rect l="l" t="t" r="r" b="b"/>
              <a:pathLst>
                <a:path w="224" h="1008">
                  <a:moveTo>
                    <a:pt x="192" y="0"/>
                  </a:moveTo>
                  <a:cubicBezTo>
                    <a:pt x="208" y="300"/>
                    <a:pt x="224" y="600"/>
                    <a:pt x="192" y="768"/>
                  </a:cubicBezTo>
                  <a:cubicBezTo>
                    <a:pt x="160" y="936"/>
                    <a:pt x="40" y="976"/>
                    <a:pt x="0" y="1008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2" name=""/>
          <p:cNvGrpSpPr/>
          <p:nvPr/>
        </p:nvGrpSpPr>
        <p:grpSpPr>
          <a:xfrm>
            <a:off x="3895560" y="806400"/>
            <a:ext cx="1758960" cy="5240160"/>
            <a:chOff x="3895560" y="806400"/>
            <a:chExt cx="1758960" cy="5240160"/>
          </a:xfrm>
        </p:grpSpPr>
        <p:sp>
          <p:nvSpPr>
            <p:cNvPr id="173" name=""/>
            <p:cNvSpPr/>
            <p:nvPr/>
          </p:nvSpPr>
          <p:spPr>
            <a:xfrm>
              <a:off x="3898800" y="806400"/>
              <a:ext cx="1755720" cy="524016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95560" y="2350800"/>
              <a:ext cx="17416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3903480" y="4270320"/>
              <a:ext cx="172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95720" y="4730760"/>
              <a:ext cx="1427400" cy="641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non-critic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(static or dynamic)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4157280" y="3055680"/>
              <a:ext cx="12308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dynamic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1680" y="1322280"/>
              <a:ext cx="10616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ritical-static 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initialis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9" name=""/>
          <p:cNvSpPr/>
          <p:nvPr/>
        </p:nvSpPr>
        <p:spPr>
          <a:xfrm>
            <a:off x="1197720" y="4086360"/>
            <a:ext cx="1778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4) Indicate initialis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lete (option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968560" y="820800"/>
            <a:ext cx="943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577920" y="824040"/>
            <a:ext cx="219528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If a ‘Start-up State Aware’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ponent, then ‘connect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 a Start-up Domain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btain current Start-up Stat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.g. critical-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730800" y="662040"/>
            <a:ext cx="2247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Component launch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675400" y="95868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2954160" y="4230720"/>
            <a:ext cx="928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6616800" y="4160880"/>
            <a:ext cx="19177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5) Domain Startup Stat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hange notific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non-critical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695920" y="4303800"/>
            <a:ext cx="942840" cy="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09880" y="950760"/>
            <a:ext cx="14400" cy="316404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5791320" y="4427640"/>
            <a:ext cx="6120" cy="1581120"/>
          </a:xfrm>
          <a:prstGeom prst="line">
            <a:avLst/>
          </a:prstGeom>
          <a:ln w="9360">
            <a:solidFill>
              <a:srgbClr val="000000"/>
            </a:solidFill>
            <a:prstDash val="lgDash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2256120" y="210168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3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5835960" y="5054760"/>
            <a:ext cx="1473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6) Code execu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268880" y="1006560"/>
            <a:ext cx="119052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Stat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746600" y="299880"/>
            <a:ext cx="204840" cy="157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4275000" y="2898720"/>
            <a:ext cx="1190880" cy="1233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935600" y="428760"/>
            <a:ext cx="285840" cy="595080"/>
          </a:xfrm>
          <a:custGeom>
            <a:avLst/>
            <a:gdLst/>
            <a:ahLst/>
            <a:rect l="l" t="t" r="r" b="b"/>
            <a:pathLst>
              <a:path w="153" h="366">
                <a:moveTo>
                  <a:pt x="0" y="0"/>
                </a:moveTo>
                <a:cubicBezTo>
                  <a:pt x="69" y="70"/>
                  <a:pt x="139" y="140"/>
                  <a:pt x="146" y="201"/>
                </a:cubicBezTo>
                <a:cubicBezTo>
                  <a:pt x="153" y="262"/>
                  <a:pt x="60" y="343"/>
                  <a:pt x="45" y="36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5167440" y="2141640"/>
            <a:ext cx="22680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5249880" y="3997440"/>
            <a:ext cx="227160" cy="841320"/>
          </a:xfrm>
          <a:custGeom>
            <a:avLst/>
            <a:gdLst/>
            <a:ahLst/>
            <a:rect l="l" t="t" r="r" b="b"/>
            <a:pathLst>
              <a:path w="143" h="530">
                <a:moveTo>
                  <a:pt x="0" y="0"/>
                </a:moveTo>
                <a:cubicBezTo>
                  <a:pt x="71" y="79"/>
                  <a:pt x="143" y="159"/>
                  <a:pt x="143" y="247"/>
                </a:cubicBezTo>
                <a:cubicBezTo>
                  <a:pt x="143" y="335"/>
                  <a:pt x="24" y="486"/>
                  <a:pt x="0" y="53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484600" y="2351160"/>
            <a:ext cx="190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Critical-Dynami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621040" y="4213080"/>
            <a:ext cx="159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te &gt;= 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729400" y="2619360"/>
            <a:ext cx="1538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5336640" y="2589120"/>
            <a:ext cx="219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Dynam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471280" y="4479840"/>
            <a:ext cx="188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NonCritical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5557680" y="450360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5252760" y="507960"/>
            <a:ext cx="1989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tart (initialisation) reque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5256000" y="774720"/>
            <a:ext cx="1988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ctionsStateCriticalStatic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5346720" y="79848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649600" y="353880"/>
            <a:ext cx="2081160" cy="5297760"/>
          </a:xfrm>
          <a:custGeom>
            <a:avLst/>
            <a:gdLst/>
            <a:ahLst/>
            <a:rect l="l" t="t" r="r" b="b"/>
            <a:pathLst>
              <a:path w="1311" h="3337">
                <a:moveTo>
                  <a:pt x="1083" y="3337"/>
                </a:moveTo>
                <a:cubicBezTo>
                  <a:pt x="655" y="3306"/>
                  <a:pt x="228" y="3275"/>
                  <a:pt x="114" y="2798"/>
                </a:cubicBezTo>
                <a:cubicBezTo>
                  <a:pt x="0" y="2321"/>
                  <a:pt x="198" y="941"/>
                  <a:pt x="397" y="475"/>
                </a:cubicBezTo>
                <a:cubicBezTo>
                  <a:pt x="596" y="9"/>
                  <a:pt x="953" y="4"/>
                  <a:pt x="1311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828080" y="2852640"/>
            <a:ext cx="1014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tart/boo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282920" y="4691160"/>
            <a:ext cx="1190880" cy="1233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n-Critic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static 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ynamic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ra Overall Description fig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924440" y="348948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25160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586400" y="4724280"/>
            <a:ext cx="1733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rows repres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ponent launch reques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57610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ase Star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EStar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913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7056360" y="4191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6264360" y="4129200"/>
            <a:ext cx="4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78120" y="3870360"/>
            <a:ext cx="72180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vic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ower-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4800600" y="372096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86400" y="4511520"/>
            <a:ext cx="304920" cy="177840"/>
          </a:xfrm>
          <a:custGeom>
            <a:avLst/>
            <a:gdLst/>
            <a:ahLst/>
            <a:rect l="l" t="t" r="r" b="b"/>
            <a:pathLst>
              <a:path w="192" h="112">
                <a:moveTo>
                  <a:pt x="0" y="112"/>
                </a:moveTo>
                <a:cubicBezTo>
                  <a:pt x="32" y="72"/>
                  <a:pt x="64" y="32"/>
                  <a:pt x="96" y="16"/>
                </a:cubicBezTo>
                <a:cubicBezTo>
                  <a:pt x="128" y="0"/>
                  <a:pt x="160" y="8"/>
                  <a:pt x="192" y="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276720"/>
            <a:ext cx="144792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Kernel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nd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e Ser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944640" y="3276720"/>
            <a:ext cx="1447560" cy="9144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e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ootstra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316640" y="3505320"/>
            <a:ext cx="560160" cy="246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re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720900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002440" y="3505320"/>
            <a:ext cx="1017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ystem Star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ysStar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392200" y="3733920"/>
            <a:ext cx="960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11120" y="3657600"/>
            <a:ext cx="152280" cy="1522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563400" y="373392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1-30T14:19:08Z</dcterms:created>
  <dc:creator>Symbian</dc:creator>
  <dc:description/>
  <dc:language>en-US</dc:language>
  <cp:lastModifiedBy>Phil Hodgson</cp:lastModifiedBy>
  <dcterms:modified xsi:type="dcterms:W3CDTF">2007-05-16T15:39:49Z</dcterms:modified>
  <cp:revision>51</cp:revision>
  <dc:subject/>
  <dc:title>Slide 1</dc:title>
</cp:coreProperties>
</file>