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6187E-1D77-464C-9404-6A7A655C6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556CD-1B12-4F58-907F-9CAA05927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D7398-68AE-46AD-BDEB-EDAF906E9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E5CD4-C730-49BB-B9AD-8C973AA46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DDC21-8269-4868-BE37-95C74D704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B4D15-0DA7-496E-9A5B-644A1EDE0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A8A58-EE0B-44D3-9ED9-102D24EA8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9A8BF-D16D-4F0B-94F5-137C68541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53EF1-3D34-4CFD-8047-BE886CA53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E2E04-D588-4E33-AF79-F7D06A4AB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22647-5596-4AC2-92A6-C4D95ECE8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52A87-5A9C-4B87-9261-5578DB49E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3AD7C-3B10-433E-8F7F-0552D97B3A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6324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1 (K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6095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2 (K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58672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56386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4 (K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29000" y="5410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5 (K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4191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5 (B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44197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4 (B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483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29000" y="4876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2 (B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5105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1 (B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29718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5 (O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32004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4 (O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342900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36576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2 (O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38862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1 (O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9000" y="1752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5 (A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29000" y="1981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4 (A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22096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29000" y="24382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2 (A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29000" y="2666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1 (A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533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5 (UF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29000" y="762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4 (UF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29000" y="9907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12193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2 (UF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29000" y="1447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1 (UF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7000" y="152280"/>
            <a:ext cx="25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-up Domain Hierarchy (SuD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1960" y="57150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6019920"/>
            <a:ext cx="26668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SuDH 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6324480"/>
            <a:ext cx="2666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used SuDH Domain (at pres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16765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29000" y="289548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411480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3341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7162920" y="533520"/>
            <a:ext cx="304560" cy="5943600"/>
          </a:xfrm>
          <a:prstGeom prst="upArrow">
            <a:avLst>
              <a:gd name="adj1" fmla="val 50000"/>
              <a:gd name="adj2" fmla="val 4878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88280" y="3429000"/>
            <a:ext cx="1015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610000" y="493704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25124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896920" y="2908440"/>
            <a:ext cx="26100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477504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315520" y="3794040"/>
            <a:ext cx="88344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01920" y="3657600"/>
            <a:ext cx="8679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38600" y="211788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4857120" y="12826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3855960" y="-263664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3716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2096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481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862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33000" y="431640"/>
            <a:ext cx="309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7242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244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1629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143000" y="83808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83808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1255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7831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857120" y="326376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5400000">
            <a:off x="3855960" y="-65556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3716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2096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0481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6483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012480" y="2413080"/>
            <a:ext cx="313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864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3244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43000" y="2819520"/>
            <a:ext cx="281952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419720" y="2819520"/>
            <a:ext cx="365760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3140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9446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857120" y="53974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5400000">
            <a:off x="3855960" y="147780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371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2096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0481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2670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840040" y="4546440"/>
            <a:ext cx="348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mulator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1055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1629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143000" y="4952880"/>
            <a:ext cx="28195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0" y="4952880"/>
            <a:ext cx="12193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111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10660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943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2673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14800" y="4952880"/>
            <a:ext cx="25909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 flipV="1">
            <a:off x="4572000" y="188928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750480" y="2057400"/>
            <a:ext cx="16984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Full Start-up Mo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857120" y="135900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rot="5400000">
            <a:off x="3855960" y="-2560680"/>
            <a:ext cx="150840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096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0481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862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30120" y="507960"/>
            <a:ext cx="309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7242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3244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8153280" y="2803680"/>
            <a:ext cx="838440" cy="1066680"/>
            <a:chOff x="8153280" y="2803680"/>
            <a:chExt cx="838440" cy="1066680"/>
          </a:xfrm>
        </p:grpSpPr>
        <p:sp>
          <p:nvSpPr>
            <p:cNvPr id="310" name=""/>
            <p:cNvSpPr/>
            <p:nvPr/>
          </p:nvSpPr>
          <p:spPr>
            <a:xfrm>
              <a:off x="8153280" y="356580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153280" y="38703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458200" y="303228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429760" y="2803680"/>
              <a:ext cx="5601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re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8458200" y="3032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71629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876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35268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5909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907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15238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752480" y="3565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66688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320040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29000" y="356544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1911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46483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79246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114800" y="5394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3152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05152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2485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5152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9144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676520" y="4251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915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31720" y="55306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162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5288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7220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273000" y="55468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420080" y="6080040"/>
            <a:ext cx="924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es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174360" y="608004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914400" y="2651040"/>
            <a:ext cx="7391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30040" y="287964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80880" y="31082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2280" y="31082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143000" y="91440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095880" y="91440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977560" y="99072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12400" y="9907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60199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876920" y="60199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474280" y="609588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440" y="4572000"/>
            <a:ext cx="3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542880" y="22860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048120" y="5335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30760" y="22845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950080" y="48830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954760" y="23130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959440" y="35942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313240" y="24541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991200" y="974880"/>
            <a:ext cx="2004120" cy="4438440"/>
            <a:chOff x="6991200" y="974880"/>
            <a:chExt cx="2004120" cy="4438440"/>
          </a:xfrm>
        </p:grpSpPr>
        <p:sp>
          <p:nvSpPr>
            <p:cNvPr id="363" name=""/>
            <p:cNvSpPr/>
            <p:nvPr/>
          </p:nvSpPr>
          <p:spPr>
            <a:xfrm>
              <a:off x="6991200" y="9874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26120" y="10238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004160" y="9748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743240" y="1546200"/>
              <a:ext cx="125208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2) Connect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 in t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1547640" y="1998720"/>
            <a:ext cx="2322720" cy="571320"/>
            <a:chOff x="1547640" y="1998720"/>
            <a:chExt cx="2322720" cy="571320"/>
          </a:xfrm>
        </p:grpSpPr>
        <p:sp>
          <p:nvSpPr>
            <p:cNvPr id="368" name=""/>
            <p:cNvSpPr/>
            <p:nvPr/>
          </p:nvSpPr>
          <p:spPr>
            <a:xfrm>
              <a:off x="1547640" y="2257560"/>
              <a:ext cx="2322720" cy="312480"/>
            </a:xfrm>
            <a:custGeom>
              <a:avLst/>
              <a:gdLst/>
              <a:ahLst/>
              <a:rect l="l" t="t" r="r" b="b"/>
              <a:pathLst>
                <a:path w="1463" h="197">
                  <a:moveTo>
                    <a:pt x="0" y="169"/>
                  </a:moveTo>
                  <a:cubicBezTo>
                    <a:pt x="253" y="84"/>
                    <a:pt x="506" y="0"/>
                    <a:pt x="750" y="5"/>
                  </a:cubicBezTo>
                  <a:cubicBezTo>
                    <a:pt x="994" y="10"/>
                    <a:pt x="1228" y="103"/>
                    <a:pt x="1463" y="19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976400" y="199872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4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1482840" y="3186000"/>
            <a:ext cx="4616280" cy="1871640"/>
            <a:chOff x="1482840" y="3186000"/>
            <a:chExt cx="4616280" cy="1871640"/>
          </a:xfrm>
        </p:grpSpPr>
        <p:sp>
          <p:nvSpPr>
            <p:cNvPr id="371" name=""/>
            <p:cNvSpPr/>
            <p:nvPr/>
          </p:nvSpPr>
          <p:spPr>
            <a:xfrm>
              <a:off x="1482840" y="3186000"/>
              <a:ext cx="4616280" cy="1871640"/>
            </a:xfrm>
            <a:custGeom>
              <a:avLst/>
              <a:gdLst/>
              <a:ahLst/>
              <a:rect l="l" t="t" r="r" b="b"/>
              <a:pathLst>
                <a:path w="2908" h="1179">
                  <a:moveTo>
                    <a:pt x="0" y="0"/>
                  </a:moveTo>
                  <a:cubicBezTo>
                    <a:pt x="667" y="199"/>
                    <a:pt x="1335" y="398"/>
                    <a:pt x="1820" y="594"/>
                  </a:cubicBezTo>
                  <a:cubicBezTo>
                    <a:pt x="2305" y="790"/>
                    <a:pt x="2606" y="984"/>
                    <a:pt x="2908" y="117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046320" y="417204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295280" y="3301920"/>
            <a:ext cx="4687920" cy="2248200"/>
            <a:chOff x="1295280" y="3301920"/>
            <a:chExt cx="4687920" cy="2248200"/>
          </a:xfrm>
        </p:grpSpPr>
        <p:sp>
          <p:nvSpPr>
            <p:cNvPr id="374" name=""/>
            <p:cNvSpPr/>
            <p:nvPr/>
          </p:nvSpPr>
          <p:spPr>
            <a:xfrm>
              <a:off x="1295280" y="3301920"/>
              <a:ext cx="4687920" cy="1987560"/>
            </a:xfrm>
            <a:custGeom>
              <a:avLst/>
              <a:gdLst/>
              <a:ahLst/>
              <a:rect l="l" t="t" r="r" b="b"/>
              <a:pathLst>
                <a:path w="2953" h="1252">
                  <a:moveTo>
                    <a:pt x="2953" y="1252"/>
                  </a:moveTo>
                  <a:cubicBezTo>
                    <a:pt x="2376" y="1192"/>
                    <a:pt x="1799" y="1132"/>
                    <a:pt x="1307" y="923"/>
                  </a:cubicBezTo>
                  <a:cubicBezTo>
                    <a:pt x="815" y="714"/>
                    <a:pt x="407" y="357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476080" y="5091120"/>
              <a:ext cx="2204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Startup finished indic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Rendezvou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5626080" y="1733400"/>
            <a:ext cx="1730520" cy="4411800"/>
            <a:chOff x="5626080" y="1733400"/>
            <a:chExt cx="1730520" cy="4411800"/>
          </a:xfrm>
        </p:grpSpPr>
        <p:sp>
          <p:nvSpPr>
            <p:cNvPr id="377" name=""/>
            <p:cNvSpPr/>
            <p:nvPr/>
          </p:nvSpPr>
          <p:spPr>
            <a:xfrm>
              <a:off x="5997960" y="1863720"/>
              <a:ext cx="986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rent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626080" y="1733400"/>
              <a:ext cx="1730520" cy="4411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3697200" y="1639800"/>
            <a:ext cx="1311480" cy="2298960"/>
            <a:chOff x="3697200" y="1639800"/>
            <a:chExt cx="1311480" cy="2298960"/>
          </a:xfrm>
        </p:grpSpPr>
        <p:sp>
          <p:nvSpPr>
            <p:cNvPr id="380" name=""/>
            <p:cNvSpPr/>
            <p:nvPr/>
          </p:nvSpPr>
          <p:spPr>
            <a:xfrm>
              <a:off x="3697200" y="1639800"/>
              <a:ext cx="1311480" cy="2298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892320" y="1855800"/>
              <a:ext cx="887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ild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3295080" y="1003320"/>
            <a:ext cx="1887480" cy="1725480"/>
            <a:chOff x="3295080" y="1003320"/>
            <a:chExt cx="1887480" cy="1725480"/>
          </a:xfrm>
        </p:grpSpPr>
        <p:sp>
          <p:nvSpPr>
            <p:cNvPr id="383" name=""/>
            <p:cNvSpPr/>
            <p:nvPr/>
          </p:nvSpPr>
          <p:spPr>
            <a:xfrm>
              <a:off x="4892760" y="100332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295080" y="1052640"/>
              <a:ext cx="188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nnect to 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393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396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399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408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411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415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2057400" y="48610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763800" y="36576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16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059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3989520" y="289512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049560" y="38098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2971800" y="4038480"/>
            <a:ext cx="7920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299120" y="4510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rot="5400000">
            <a:off x="4152960" y="217152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043880" y="257796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876320" y="3886200"/>
            <a:ext cx="101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478320" y="485136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893320" y="31240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533520" y="96012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57200" y="2049480"/>
            <a:ext cx="457200" cy="401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80880" y="34210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80880" y="4792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209680" y="1287360"/>
            <a:ext cx="1752840" cy="3810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371600" y="1135080"/>
            <a:ext cx="8380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14600" y="174456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514600" y="2811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14600" y="3954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590920" y="18972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590920" y="20494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590920" y="22017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590920" y="23544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590920" y="25066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590920" y="4564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590920" y="2963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590920" y="3116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590920" y="3268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590920" y="3421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590920" y="3573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590920" y="4106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590920" y="4259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590920" y="4411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90920" y="4716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876920" y="1843200"/>
            <a:ext cx="12189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211840" y="1363680"/>
            <a:ext cx="172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82320" y="5630760"/>
            <a:ext cx="587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990720" y="5249880"/>
            <a:ext cx="1828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censee-allocated startup modes in 1024 block rang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914400" y="4259160"/>
            <a:ext cx="4572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H="1" flipV="1">
            <a:off x="914400" y="2658600"/>
            <a:ext cx="45720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914400" y="509724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308840" y="2658960"/>
            <a:ext cx="1338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St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.g. Critical Dynam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3657240" y="2811240"/>
            <a:ext cx="68580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799280" y="1042920"/>
            <a:ext cx="109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SSC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657600" y="2049480"/>
            <a:ext cx="1219320" cy="2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963240" y="1744560"/>
            <a:ext cx="55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vo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3170160"/>
            <a:ext cx="190512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162920" y="3551400"/>
            <a:ext cx="1143000" cy="154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238880" y="3703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238880" y="38559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238880" y="4008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238880" y="4160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238880" y="43131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238880" y="46180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238880" y="47703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238880" y="4923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784200" y="3246480"/>
            <a:ext cx="189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095880" y="227808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792760" y="3040200"/>
            <a:ext cx="94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238880" y="44658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116240" y="4548240"/>
            <a:ext cx="172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with associated properti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 flipV="1">
            <a:off x="3581280" y="4258800"/>
            <a:ext cx="9907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5257800" y="3855600"/>
            <a:ext cx="198108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162920" y="159228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162920" y="243036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716292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822960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317720" y="1973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C 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6095880" y="2125800"/>
            <a:ext cx="106704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250320" y="1820880"/>
            <a:ext cx="68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" y="601560"/>
            <a:ext cx="12952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838080" y="1134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22960" y="1440000"/>
            <a:ext cx="861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Startu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85720" y="2049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58280" y="31161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58280" y="34974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58280" y="44877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58280" y="48690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3657240" y="283356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514600" y="762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14600" y="1905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14600" y="3048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4191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5334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91120" y="990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91120" y="2133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91120" y="4419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91120" y="3276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36200" y="1066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358520" y="2209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8520" y="3352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36200" y="4495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36200" y="5638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03320" y="456876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52480" y="35179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58000" y="351792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05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8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010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153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26708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28960" y="2908440"/>
            <a:ext cx="25750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08660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27520" y="207000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557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929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7200360" y="203184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137720" y="24382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3733920"/>
            <a:ext cx="82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rnel 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3962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455940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90400" y="28954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486400" y="43434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670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3429000"/>
            <a:ext cx="5562720" cy="23623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734720" y="359568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b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2895480"/>
            <a:ext cx="2819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ystem Star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44520" y="1562040"/>
            <a:ext cx="2641680" cy="1333440"/>
          </a:xfrm>
          <a:custGeom>
            <a:avLst/>
            <a:gdLst/>
            <a:ahLst/>
            <a:rect l="l" t="t" r="r" b="b"/>
            <a:pathLst>
              <a:path w="1520" h="840">
                <a:moveTo>
                  <a:pt x="1520" y="120"/>
                </a:moveTo>
                <a:cubicBezTo>
                  <a:pt x="984" y="60"/>
                  <a:pt x="448" y="0"/>
                  <a:pt x="224" y="120"/>
                </a:cubicBezTo>
                <a:cubicBezTo>
                  <a:pt x="0" y="240"/>
                  <a:pt x="88" y="540"/>
                  <a:pt x="176" y="8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886200" y="609480"/>
            <a:ext cx="4495680" cy="2819520"/>
            <a:chOff x="3886200" y="609480"/>
            <a:chExt cx="4495680" cy="2819520"/>
          </a:xfrm>
        </p:grpSpPr>
        <p:sp>
          <p:nvSpPr>
            <p:cNvPr id="135" name=""/>
            <p:cNvSpPr/>
            <p:nvPr/>
          </p:nvSpPr>
          <p:spPr>
            <a:xfrm>
              <a:off x="3886200" y="1295280"/>
              <a:ext cx="449568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main Manag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86200" y="609480"/>
              <a:ext cx="4495680" cy="685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rt-up Domain Hierarchy Policy Plug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domainPolicy2.dll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172200" y="220968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691320" y="46083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147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150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153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162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165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169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3895560" y="806400"/>
            <a:ext cx="1758960" cy="5240160"/>
            <a:chOff x="3895560" y="806400"/>
            <a:chExt cx="1758960" cy="5240160"/>
          </a:xfrm>
        </p:grpSpPr>
        <p:sp>
          <p:nvSpPr>
            <p:cNvPr id="173" name=""/>
            <p:cNvSpPr/>
            <p:nvPr/>
          </p:nvSpPr>
          <p:spPr>
            <a:xfrm>
              <a:off x="3898800" y="806400"/>
              <a:ext cx="1755720" cy="5240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95560" y="2350800"/>
              <a:ext cx="17416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03480" y="4270320"/>
              <a:ext cx="172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095720" y="4730760"/>
              <a:ext cx="1427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n-critic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static or dynamic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157280" y="3055680"/>
              <a:ext cx="1230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dynam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1680" y="1322280"/>
              <a:ext cx="1061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static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197720" y="4086360"/>
            <a:ext cx="177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) Indicate initia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68560" y="820800"/>
            <a:ext cx="943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577920" y="824040"/>
            <a:ext cx="219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If a ‘Start-up State Aware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, then ‘connect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 Start-up Domain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 current Start-up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.g. critical-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0800" y="662040"/>
            <a:ext cx="224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Component launch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675400" y="95868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954160" y="4230720"/>
            <a:ext cx="9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616800" y="4160880"/>
            <a:ext cx="1917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) Domain Startup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no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n-critic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695920" y="430380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09880" y="950760"/>
            <a:ext cx="14400" cy="31640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91320" y="4427640"/>
            <a:ext cx="6120" cy="158112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56120" y="210168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35960" y="505476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268880" y="1006560"/>
            <a:ext cx="119052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Sta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46600" y="299880"/>
            <a:ext cx="204840" cy="15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75000" y="2898720"/>
            <a:ext cx="1190880" cy="1233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35600" y="428760"/>
            <a:ext cx="285840" cy="595080"/>
          </a:xfrm>
          <a:custGeom>
            <a:avLst/>
            <a:gdLst/>
            <a:ahLst/>
            <a:rect l="l" t="t" r="r" b="b"/>
            <a:pathLst>
              <a:path w="153" h="366">
                <a:moveTo>
                  <a:pt x="0" y="0"/>
                </a:moveTo>
                <a:cubicBezTo>
                  <a:pt x="69" y="70"/>
                  <a:pt x="139" y="140"/>
                  <a:pt x="146" y="201"/>
                </a:cubicBezTo>
                <a:cubicBezTo>
                  <a:pt x="153" y="262"/>
                  <a:pt x="60" y="343"/>
                  <a:pt x="45" y="3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67440" y="2141640"/>
            <a:ext cx="22680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49880" y="3997440"/>
            <a:ext cx="22716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84600" y="2351160"/>
            <a:ext cx="190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621040" y="421308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729400" y="2619360"/>
            <a:ext cx="15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36640" y="2589120"/>
            <a:ext cx="219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Dynam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71280" y="4479840"/>
            <a:ext cx="18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NonCritical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557680" y="4503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52760" y="507960"/>
            <a:ext cx="198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(initialisation)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56000" y="774720"/>
            <a:ext cx="198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Stat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46720" y="7984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649600" y="353880"/>
            <a:ext cx="2081160" cy="5297760"/>
          </a:xfrm>
          <a:custGeom>
            <a:avLst/>
            <a:gdLst/>
            <a:ahLst/>
            <a:rect l="l" t="t" r="r" b="b"/>
            <a:pathLst>
              <a:path w="1311" h="3337">
                <a:moveTo>
                  <a:pt x="1083" y="3337"/>
                </a:moveTo>
                <a:cubicBezTo>
                  <a:pt x="655" y="3306"/>
                  <a:pt x="228" y="3275"/>
                  <a:pt x="114" y="2798"/>
                </a:cubicBezTo>
                <a:cubicBezTo>
                  <a:pt x="0" y="2321"/>
                  <a:pt x="198" y="941"/>
                  <a:pt x="397" y="475"/>
                </a:cubicBezTo>
                <a:cubicBezTo>
                  <a:pt x="596" y="9"/>
                  <a:pt x="953" y="4"/>
                  <a:pt x="131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28080" y="285264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art/b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82920" y="4691160"/>
            <a:ext cx="119088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tatic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 Overall Description fig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924440" y="34894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160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86400" y="47242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7610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913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056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264360" y="4129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8120" y="3870360"/>
            <a:ext cx="721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vi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-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800600" y="372096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451152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44640" y="3276720"/>
            <a:ext cx="144756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3166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20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002440" y="3505320"/>
            <a:ext cx="1017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92200" y="373392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11120" y="36576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63400" y="3733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14:19:08Z</dcterms:created>
  <dc:creator>Symbian</dc:creator>
  <dc:description/>
  <dc:language>en-US</dc:language>
  <cp:lastModifiedBy>Phil Hodgson</cp:lastModifiedBy>
  <dcterms:modified xsi:type="dcterms:W3CDTF">2007-05-16T15:39:49Z</dcterms:modified>
  <cp:revision>51</cp:revision>
  <dc:subject/>
  <dc:title>Slide 1</dc:title>
</cp:coreProperties>
</file>