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F6EB9-1095-433C-899A-239D502F4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D83F2-CDC0-466B-9ED6-3E7B831E4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3314F-D93E-4F60-A294-B51847016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E6E3C-4F1E-444A-AA0F-BBCF78445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CD2D0-AD38-4EFC-B3E7-E913B764D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C7E2B-D2DF-4062-84CA-5A6BF9588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4A6A3-C2B7-457E-AD0B-85579069F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71371-787A-442A-B1F9-2D4C9BFFC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FE90F-DBF1-4FEC-AC2B-19427164A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8240E-4178-4EFA-9C1E-36151E490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9059E-A23D-4A17-AF28-F80C929AB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81021-AA4F-4490-8F11-283B38444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93C33-94A6-4D3B-9FCC-63C809DA14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0020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3828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CF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276720" y="17524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CF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1480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DSN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DSN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791320" y="17524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respondent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1952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65760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33412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7220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01028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819520" y="228600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355200" y="2133720"/>
            <a:ext cx="604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-P Sess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022640" y="25509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49568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981080" y="251460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981080" y="27432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657600" y="27432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981080" y="29718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981080" y="32004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34120" y="32004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5334120" y="34290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1981080" y="34290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819520" y="365760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981080" y="38862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981080" y="411480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267080" y="2362320"/>
            <a:ext cx="487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P Traffic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059560" y="2590920"/>
            <a:ext cx="663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GHDM/UHDM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194000" y="2590920"/>
            <a:ext cx="777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ew R-P Sess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897640" y="2819520"/>
            <a:ext cx="1660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PP Re-Negotiation + Agent Advertisemen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659040" y="3048120"/>
            <a:ext cx="506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Q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487840" y="3048120"/>
            <a:ext cx="506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Q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488200" y="3276720"/>
            <a:ext cx="497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9400" y="3276720"/>
            <a:ext cx="497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279240" y="3505320"/>
            <a:ext cx="880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-P Session Expire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288160" y="3733920"/>
            <a:ext cx="1189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Handoff Completion Messag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267080" y="3962520"/>
            <a:ext cx="487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P Traffic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47242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60199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312408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52578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388620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4648320" y="533520"/>
            <a:ext cx="0" cy="46479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34290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4267080" y="106668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533412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64008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3048120" y="22096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3049920" y="2057400"/>
            <a:ext cx="337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3429000" y="23623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3432600" y="2209680"/>
            <a:ext cx="1878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3641760" y="24750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5638680" y="27432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464832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426708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3429000" y="25909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3431160" y="2438280"/>
            <a:ext cx="1883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De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5334120" y="28195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4880520" y="2666880"/>
            <a:ext cx="2103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Stop,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3431880" y="3352680"/>
            <a:ext cx="20660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eregistra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3200400" y="236232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1905120" y="274320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ing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4" name=""/>
          <p:cNvCxnSpPr>
            <a:endCxn id="733" idx="3"/>
          </p:cNvCxnSpPr>
          <p:nvPr/>
        </p:nvCxnSpPr>
        <p:spPr>
          <a:xfrm flipH="1" flipV="1">
            <a:off x="2819160" y="2839680"/>
            <a:ext cx="381600" cy="56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35" name=""/>
          <p:cNvSpPr/>
          <p:nvPr/>
        </p:nvSpPr>
        <p:spPr>
          <a:xfrm>
            <a:off x="3429000" y="35053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5334120" y="32767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4880520" y="3124080"/>
            <a:ext cx="2261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 Completed(EConfigDaemonDeregisterAc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3200400" y="1295280"/>
            <a:ext cx="228600" cy="6858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9" name=""/>
          <p:cNvCxnSpPr>
            <a:endCxn id="740" idx="3"/>
          </p:cNvCxnSpPr>
          <p:nvPr/>
        </p:nvCxnSpPr>
        <p:spPr>
          <a:xfrm flipH="1" flipV="1">
            <a:off x="2742840" y="1590480"/>
            <a:ext cx="457920" cy="100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40" name=""/>
          <p:cNvSpPr/>
          <p:nvPr/>
        </p:nvSpPr>
        <p:spPr>
          <a:xfrm>
            <a:off x="1981080" y="1447920"/>
            <a:ext cx="76212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ormant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(= Link U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342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3659400" y="3581280"/>
            <a:ext cx="337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3429000" y="4191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3508200" y="4038480"/>
            <a:ext cx="708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3429000" y="44197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3202560" y="4267080"/>
            <a:ext cx="1201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LinkLayerClos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3200400" y="3733920"/>
            <a:ext cx="235080" cy="6858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2057400" y="380988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ping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9" name=""/>
          <p:cNvCxnSpPr>
            <a:endCxn id="748" idx="3"/>
          </p:cNvCxnSpPr>
          <p:nvPr/>
        </p:nvCxnSpPr>
        <p:spPr>
          <a:xfrm flipH="1" flipV="1">
            <a:off x="2971080" y="3906000"/>
            <a:ext cx="229320" cy="565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50" name=""/>
          <p:cNvSpPr/>
          <p:nvPr/>
        </p:nvSpPr>
        <p:spPr>
          <a:xfrm>
            <a:off x="3657600" y="36576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676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nterfa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438280" y="83808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Sess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724280" y="8380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6386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9343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676520" y="45720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s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74320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875480" y="457200"/>
            <a:ext cx="44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G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1722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36232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88620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533520"/>
            <a:ext cx="0" cy="49528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56272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98108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42900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267080" y="10666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24852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1520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048120" y="1371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744640" y="1219320"/>
            <a:ext cx="704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429000" y="15238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659400" y="1371600"/>
            <a:ext cx="337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3429000" y="19810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4176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508200" y="1828800"/>
            <a:ext cx="708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657600" y="14479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429000" y="22096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498200" y="2057400"/>
            <a:ext cx="609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248520" y="30481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555600" y="2895480"/>
            <a:ext cx="37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6172200" y="2514600"/>
            <a:ext cx="1676520" cy="380520"/>
            <a:chOff x="6172200" y="2514600"/>
            <a:chExt cx="1676520" cy="380520"/>
          </a:xfrm>
        </p:grpSpPr>
        <p:cxnSp>
          <p:nvCxnSpPr>
            <p:cNvPr id="116" name=""/>
            <p:cNvCxnSpPr>
              <a:stCxn id="117" idx="3"/>
              <a:endCxn id="118" idx="3"/>
            </p:cNvCxnSpPr>
            <p:nvPr/>
          </p:nvCxnSpPr>
          <p:spPr>
            <a:xfrm>
              <a:off x="6248520" y="259056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7" name=""/>
            <p:cNvSpPr/>
            <p:nvPr/>
          </p:nvSpPr>
          <p:spPr>
            <a:xfrm>
              <a:off x="6172200" y="251460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172200" y="266688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477120" y="259056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3429000" y="327672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964680" y="3124080"/>
            <a:ext cx="5587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200400" y="1994040"/>
            <a:ext cx="235080" cy="10476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038480" y="32004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428640" y="36576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812760" y="3505320"/>
            <a:ext cx="886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1980720" y="41911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529280" y="4038480"/>
            <a:ext cx="17658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(KConnectionUninitializ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1905120" y="4267080"/>
            <a:ext cx="1675800" cy="381240"/>
            <a:chOff x="1905120" y="4267080"/>
            <a:chExt cx="1675800" cy="381240"/>
          </a:xfrm>
        </p:grpSpPr>
        <p:cxnSp>
          <p:nvCxnSpPr>
            <p:cNvPr id="129" name=""/>
            <p:cNvCxnSpPr>
              <a:stCxn id="130" idx="3"/>
              <a:endCxn id="131" idx="3"/>
            </p:cNvCxnSpPr>
            <p:nvPr/>
          </p:nvCxnSpPr>
          <p:spPr>
            <a:xfrm>
              <a:off x="1980720" y="4343040"/>
              <a:ext cx="180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0" name=""/>
            <p:cNvSpPr/>
            <p:nvPr/>
          </p:nvSpPr>
          <p:spPr>
            <a:xfrm>
              <a:off x="1905120" y="4267080"/>
              <a:ext cx="75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905120" y="4419720"/>
              <a:ext cx="75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209680" y="434340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sync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1523880" y="4724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526040" y="4572000"/>
            <a:ext cx="3895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981080" y="49528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135520" y="4800600"/>
            <a:ext cx="3895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743200" y="5181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668320" y="5029200"/>
            <a:ext cx="781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moveObserv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3352680" y="5334120"/>
            <a:ext cx="1676520" cy="380520"/>
            <a:chOff x="3352680" y="5334120"/>
            <a:chExt cx="1676520" cy="380520"/>
          </a:xfrm>
        </p:grpSpPr>
        <p:cxnSp>
          <p:nvCxnSpPr>
            <p:cNvPr id="140" name=""/>
            <p:cNvCxnSpPr>
              <a:stCxn id="141" idx="3"/>
              <a:endCxn id="142" idx="3"/>
            </p:cNvCxnSpPr>
            <p:nvPr/>
          </p:nvCxnSpPr>
          <p:spPr>
            <a:xfrm>
              <a:off x="3429000" y="54100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1" name=""/>
            <p:cNvSpPr/>
            <p:nvPr/>
          </p:nvSpPr>
          <p:spPr>
            <a:xfrm>
              <a:off x="3352680" y="53341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352680" y="54864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657600" y="54100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los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1905120" y="5943600"/>
            <a:ext cx="1675800" cy="380520"/>
            <a:chOff x="1905120" y="5943600"/>
            <a:chExt cx="1675800" cy="380520"/>
          </a:xfrm>
        </p:grpSpPr>
        <p:cxnSp>
          <p:nvCxnSpPr>
            <p:cNvPr id="145" name=""/>
            <p:cNvCxnSpPr>
              <a:stCxn id="146" idx="3"/>
              <a:endCxn id="147" idx="3"/>
            </p:cNvCxnSpPr>
            <p:nvPr/>
          </p:nvCxnSpPr>
          <p:spPr>
            <a:xfrm>
              <a:off x="1980720" y="6019560"/>
              <a:ext cx="180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6" name=""/>
            <p:cNvSpPr/>
            <p:nvPr/>
          </p:nvSpPr>
          <p:spPr>
            <a:xfrm>
              <a:off x="1905120" y="5943600"/>
              <a:ext cx="759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905120" y="6095880"/>
              <a:ext cx="7596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209680" y="601956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AllSubInterfaces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3352680" y="5638680"/>
            <a:ext cx="1676520" cy="381240"/>
            <a:chOff x="3352680" y="5638680"/>
            <a:chExt cx="1676520" cy="381240"/>
          </a:xfrm>
        </p:grpSpPr>
        <p:cxnSp>
          <p:nvCxnSpPr>
            <p:cNvPr id="150" name=""/>
            <p:cNvCxnSpPr>
              <a:stCxn id="151" idx="3"/>
              <a:endCxn id="152" idx="3"/>
            </p:cNvCxnSpPr>
            <p:nvPr/>
          </p:nvCxnSpPr>
          <p:spPr>
            <a:xfrm>
              <a:off x="3429000" y="5714640"/>
              <a:ext cx="216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51" name=""/>
            <p:cNvSpPr/>
            <p:nvPr/>
          </p:nvSpPr>
          <p:spPr>
            <a:xfrm>
              <a:off x="3352680" y="5638680"/>
              <a:ext cx="76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352680" y="5791320"/>
              <a:ext cx="76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657600" y="571500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464832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26708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2742840" y="38862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215080" y="3733920"/>
            <a:ext cx="17658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(KConnectionUninitializ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752480" y="4724280"/>
            <a:ext cx="235080" cy="127656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019920" y="21337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3809880" y="76212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505320" y="152388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05320" y="23623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art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05320" y="41911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pp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505320" y="50292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s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334120" y="23623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809880" y="5867280"/>
            <a:ext cx="152640" cy="152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7" name=""/>
          <p:cNvCxnSpPr>
            <a:stCxn id="161" idx="2"/>
            <a:endCxn id="168" idx="0"/>
          </p:cNvCxnSpPr>
          <p:nvPr/>
        </p:nvCxnSpPr>
        <p:spPr>
          <a:xfrm>
            <a:off x="3885840" y="17524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9" name=""/>
          <p:cNvCxnSpPr>
            <a:stCxn id="170" idx="2"/>
            <a:endCxn id="171" idx="0"/>
          </p:cNvCxnSpPr>
          <p:nvPr/>
        </p:nvCxnSpPr>
        <p:spPr>
          <a:xfrm>
            <a:off x="3885840" y="297180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2" name=""/>
          <p:cNvCxnSpPr>
            <a:stCxn id="173" idx="2"/>
            <a:endCxn id="163" idx="0"/>
          </p:cNvCxnSpPr>
          <p:nvPr/>
        </p:nvCxnSpPr>
        <p:spPr>
          <a:xfrm>
            <a:off x="3885840" y="3962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" name=""/>
          <p:cNvCxnSpPr>
            <a:stCxn id="175" idx="2"/>
            <a:endCxn id="166" idx="0"/>
          </p:cNvCxnSpPr>
          <p:nvPr/>
        </p:nvCxnSpPr>
        <p:spPr>
          <a:xfrm>
            <a:off x="3885840" y="56383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6" name=""/>
          <p:cNvCxnSpPr>
            <a:stCxn id="177" idx="3"/>
            <a:endCxn id="165" idx="1"/>
          </p:cNvCxnSpPr>
          <p:nvPr/>
        </p:nvCxnSpPr>
        <p:spPr>
          <a:xfrm>
            <a:off x="5028840" y="247608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8" name=""/>
          <p:cNvCxnSpPr>
            <a:stCxn id="179" idx="0"/>
            <a:endCxn id="165" idx="2"/>
          </p:cNvCxnSpPr>
          <p:nvPr/>
        </p:nvCxnSpPr>
        <p:spPr>
          <a:xfrm flipV="1">
            <a:off x="5714640" y="2590560"/>
            <a:ext cx="1080" cy="3052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0" name=""/>
          <p:cNvCxnSpPr>
            <a:stCxn id="181" idx="0"/>
            <a:endCxn id="161" idx="3"/>
          </p:cNvCxnSpPr>
          <p:nvPr/>
        </p:nvCxnSpPr>
        <p:spPr>
          <a:xfrm flipV="1" rot="16200000">
            <a:off x="4857480" y="1046880"/>
            <a:ext cx="26712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stCxn id="183" idx="2"/>
            <a:endCxn id="164" idx="3"/>
          </p:cNvCxnSpPr>
          <p:nvPr/>
        </p:nvCxnSpPr>
        <p:spPr>
          <a:xfrm rot="5400000">
            <a:off x="4742640" y="3638520"/>
            <a:ext cx="1029600" cy="19821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85" idx="2"/>
            <a:endCxn id="164" idx="1"/>
          </p:cNvCxnSpPr>
          <p:nvPr/>
        </p:nvCxnSpPr>
        <p:spPr>
          <a:xfrm flipH="1" rot="16200000">
            <a:off x="2419200" y="4057200"/>
            <a:ext cx="72468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/>
          <p:nvPr/>
        </p:nvCxnSpPr>
        <p:spPr>
          <a:xfrm>
            <a:off x="3885840" y="1219320"/>
            <a:ext cx="108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7" name=""/>
          <p:cNvCxnSpPr>
            <a:endCxn id="188" idx="0"/>
          </p:cNvCxnSpPr>
          <p:nvPr/>
        </p:nvCxnSpPr>
        <p:spPr>
          <a:xfrm>
            <a:off x="3885840" y="9140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8" name=""/>
          <p:cNvSpPr/>
          <p:nvPr/>
        </p:nvSpPr>
        <p:spPr>
          <a:xfrm>
            <a:off x="3657600" y="10666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657600" y="19051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Connected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NIF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"/>
          <p:cNvCxnSpPr>
            <a:stCxn id="168" idx="2"/>
            <a:endCxn id="162" idx="0"/>
          </p:cNvCxnSpPr>
          <p:nvPr/>
        </p:nvCxnSpPr>
        <p:spPr>
          <a:xfrm>
            <a:off x="3885840" y="213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0" name=""/>
          <p:cNvSpPr/>
          <p:nvPr/>
        </p:nvSpPr>
        <p:spPr>
          <a:xfrm>
            <a:off x="3657600" y="27432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Up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0" name=""/>
          <p:cNvCxnSpPr>
            <a:stCxn id="170" idx="0"/>
            <a:endCxn id="162" idx="2"/>
          </p:cNvCxnSpPr>
          <p:nvPr/>
        </p:nvCxnSpPr>
        <p:spPr>
          <a:xfrm flipV="1">
            <a:off x="3885840" y="25902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9" name=""/>
          <p:cNvSpPr/>
          <p:nvPr/>
        </p:nvSpPr>
        <p:spPr>
          <a:xfrm>
            <a:off x="5486400" y="28954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1" name=""/>
          <p:cNvCxnSpPr>
            <a:stCxn id="179" idx="2"/>
            <a:endCxn id="171" idx="3"/>
          </p:cNvCxnSpPr>
          <p:nvPr/>
        </p:nvCxnSpPr>
        <p:spPr>
          <a:xfrm rot="5400000">
            <a:off x="4818960" y="2571480"/>
            <a:ext cx="34380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3" name=""/>
          <p:cNvSpPr/>
          <p:nvPr/>
        </p:nvSpPr>
        <p:spPr>
          <a:xfrm>
            <a:off x="6019920" y="38862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2" name=""/>
          <p:cNvCxnSpPr>
            <a:stCxn id="165" idx="3"/>
            <a:endCxn id="183" idx="0"/>
          </p:cNvCxnSpPr>
          <p:nvPr/>
        </p:nvCxnSpPr>
        <p:spPr>
          <a:xfrm>
            <a:off x="6095880" y="2476440"/>
            <a:ext cx="153360" cy="1410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5" name=""/>
          <p:cNvSpPr/>
          <p:nvPr/>
        </p:nvSpPr>
        <p:spPr>
          <a:xfrm>
            <a:off x="1828800" y="41911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3" name=""/>
          <p:cNvCxnSpPr>
            <a:stCxn id="194" idx="1"/>
            <a:endCxn id="185" idx="0"/>
          </p:cNvCxnSpPr>
          <p:nvPr/>
        </p:nvCxnSpPr>
        <p:spPr>
          <a:xfrm flipV="1" rot="10800000">
            <a:off x="2056680" y="2400120"/>
            <a:ext cx="1448640" cy="1791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5" name=""/>
          <p:cNvCxnSpPr>
            <a:stCxn id="196" idx="1"/>
            <a:endCxn id="185" idx="0"/>
          </p:cNvCxnSpPr>
          <p:nvPr/>
        </p:nvCxnSpPr>
        <p:spPr>
          <a:xfrm flipV="1" rot="10800000">
            <a:off x="2056680" y="3542400"/>
            <a:ext cx="1448640" cy="648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7" name=""/>
          <p:cNvCxnSpPr>
            <a:stCxn id="198" idx="1"/>
            <a:endCxn id="199" idx="0"/>
          </p:cNvCxnSpPr>
          <p:nvPr/>
        </p:nvCxnSpPr>
        <p:spPr>
          <a:xfrm flipV="1" rot="10800000">
            <a:off x="2742480" y="2552400"/>
            <a:ext cx="762840" cy="1257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99" name=""/>
          <p:cNvSpPr/>
          <p:nvPr/>
        </p:nvSpPr>
        <p:spPr>
          <a:xfrm>
            <a:off x="2514600" y="38098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0" name=""/>
          <p:cNvCxnSpPr>
            <a:endCxn id="199" idx="0"/>
          </p:cNvCxnSpPr>
          <p:nvPr/>
        </p:nvCxnSpPr>
        <p:spPr>
          <a:xfrm flipV="1" rot="10800000">
            <a:off x="2742480" y="3428640"/>
            <a:ext cx="762840" cy="3816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3" name=""/>
          <p:cNvSpPr/>
          <p:nvPr/>
        </p:nvSpPr>
        <p:spPr>
          <a:xfrm>
            <a:off x="3657600" y="3733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 Complete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1" name=""/>
          <p:cNvCxnSpPr>
            <a:stCxn id="173" idx="0"/>
            <a:endCxn id="171" idx="2"/>
          </p:cNvCxnSpPr>
          <p:nvPr/>
        </p:nvCxnSpPr>
        <p:spPr>
          <a:xfrm flipV="1">
            <a:off x="3885840" y="358092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02" name=""/>
          <p:cNvSpPr/>
          <p:nvPr/>
        </p:nvSpPr>
        <p:spPr>
          <a:xfrm>
            <a:off x="3657600" y="45720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3" name=""/>
          <p:cNvCxnSpPr>
            <a:stCxn id="202" idx="0"/>
            <a:endCxn id="163" idx="2"/>
          </p:cNvCxnSpPr>
          <p:nvPr/>
        </p:nvCxnSpPr>
        <p:spPr>
          <a:xfrm flipV="1">
            <a:off x="3885840" y="44190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5" name=""/>
          <p:cNvSpPr/>
          <p:nvPr/>
        </p:nvSpPr>
        <p:spPr>
          <a:xfrm>
            <a:off x="3657600" y="5410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Stopp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4" name=""/>
          <p:cNvCxnSpPr>
            <a:stCxn id="175" idx="0"/>
            <a:endCxn id="164" idx="2"/>
          </p:cNvCxnSpPr>
          <p:nvPr/>
        </p:nvCxnSpPr>
        <p:spPr>
          <a:xfrm flipV="1">
            <a:off x="3885840" y="52570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5" name=""/>
          <p:cNvCxnSpPr>
            <a:stCxn id="202" idx="2"/>
            <a:endCxn id="164" idx="0"/>
          </p:cNvCxnSpPr>
          <p:nvPr/>
        </p:nvCxnSpPr>
        <p:spPr>
          <a:xfrm>
            <a:off x="3885840" y="480024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"/>
          <p:cNvCxnSpPr>
            <a:stCxn id="207" idx="1"/>
            <a:endCxn id="208" idx="2"/>
          </p:cNvCxnSpPr>
          <p:nvPr/>
        </p:nvCxnSpPr>
        <p:spPr>
          <a:xfrm rot="10800000">
            <a:off x="3351960" y="3199680"/>
            <a:ext cx="153360" cy="1911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08" name=""/>
          <p:cNvSpPr/>
          <p:nvPr/>
        </p:nvSpPr>
        <p:spPr>
          <a:xfrm>
            <a:off x="3200400" y="2971800"/>
            <a:ext cx="3049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acke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ctiv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9" name=""/>
          <p:cNvCxnSpPr>
            <a:stCxn id="199" idx="2"/>
            <a:endCxn id="163" idx="1"/>
          </p:cNvCxnSpPr>
          <p:nvPr/>
        </p:nvCxnSpPr>
        <p:spPr>
          <a:xfrm flipH="1" rot="16200000">
            <a:off x="2990160" y="3790080"/>
            <a:ext cx="267120" cy="762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"/>
          <p:cNvCxnSpPr>
            <a:stCxn id="208" idx="3"/>
          </p:cNvCxnSpPr>
          <p:nvPr/>
        </p:nvCxnSpPr>
        <p:spPr>
          <a:xfrm>
            <a:off x="3504960" y="3086280"/>
            <a:ext cx="229320" cy="2671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7" name=""/>
          <p:cNvSpPr/>
          <p:nvPr/>
        </p:nvSpPr>
        <p:spPr>
          <a:xfrm>
            <a:off x="4572000" y="2362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1" name=""/>
          <p:cNvCxnSpPr>
            <a:stCxn id="177" idx="1"/>
            <a:endCxn id="162" idx="3"/>
          </p:cNvCxnSpPr>
          <p:nvPr/>
        </p:nvCxnSpPr>
        <p:spPr>
          <a:xfrm flipH="1">
            <a:off x="4266360" y="247608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1" name=""/>
          <p:cNvSpPr/>
          <p:nvPr/>
        </p:nvSpPr>
        <p:spPr>
          <a:xfrm>
            <a:off x="5486400" y="19051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 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2" name=""/>
          <p:cNvCxnSpPr>
            <a:stCxn id="165" idx="0"/>
            <a:endCxn id="181" idx="2"/>
          </p:cNvCxnSpPr>
          <p:nvPr/>
        </p:nvCxnSpPr>
        <p:spPr>
          <a:xfrm flipV="1">
            <a:off x="5714640" y="2133000"/>
            <a:ext cx="108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13" name=""/>
          <p:cNvGrpSpPr/>
          <p:nvPr/>
        </p:nvGrpSpPr>
        <p:grpSpPr>
          <a:xfrm>
            <a:off x="3505320" y="3352680"/>
            <a:ext cx="761760" cy="228600"/>
            <a:chOff x="3505320" y="3352680"/>
            <a:chExt cx="761760" cy="228600"/>
          </a:xfrm>
        </p:grpSpPr>
        <p:sp>
          <p:nvSpPr>
            <p:cNvPr id="171" name=""/>
            <p:cNvSpPr/>
            <p:nvPr/>
          </p:nvSpPr>
          <p:spPr>
            <a:xfrm>
              <a:off x="3505320" y="3352680"/>
              <a:ext cx="761760" cy="2286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ink U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505320" y="3352680"/>
              <a:ext cx="759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2666880" y="3505320"/>
            <a:ext cx="152640" cy="75960"/>
            <a:chOff x="2666880" y="3505320"/>
            <a:chExt cx="152640" cy="75960"/>
          </a:xfrm>
        </p:grpSpPr>
        <p:sp>
          <p:nvSpPr>
            <p:cNvPr id="215" name=""/>
            <p:cNvSpPr/>
            <p:nvPr/>
          </p:nvSpPr>
          <p:spPr>
            <a:xfrm>
              <a:off x="2666880" y="3505320"/>
              <a:ext cx="152640" cy="75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666880" y="3543120"/>
              <a:ext cx="152640" cy="37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742840" y="350532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3505320" y="23623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505320" y="251460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505320" y="335268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505320" y="35053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9" name=""/>
          <p:cNvGrpSpPr/>
          <p:nvPr/>
        </p:nvGrpSpPr>
        <p:grpSpPr>
          <a:xfrm>
            <a:off x="5562720" y="3200040"/>
            <a:ext cx="228600" cy="228960"/>
            <a:chOff x="5562720" y="3200040"/>
            <a:chExt cx="228600" cy="228960"/>
          </a:xfrm>
        </p:grpSpPr>
        <p:sp>
          <p:nvSpPr>
            <p:cNvPr id="220" name=""/>
            <p:cNvSpPr/>
            <p:nvPr/>
          </p:nvSpPr>
          <p:spPr>
            <a:xfrm rot="16200000">
              <a:off x="5533920" y="322848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562720" y="33148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677200" y="320040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562720" y="327672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"/>
          <p:cNvSpPr/>
          <p:nvPr/>
        </p:nvSpPr>
        <p:spPr>
          <a:xfrm>
            <a:off x="3581280" y="2438280"/>
            <a:ext cx="5791320" cy="32004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1600200"/>
            <a:ext cx="3352680" cy="403848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6248160" y="3200400"/>
            <a:ext cx="228960" cy="228600"/>
            <a:chOff x="6248160" y="3200400"/>
            <a:chExt cx="228960" cy="228600"/>
          </a:xfrm>
        </p:grpSpPr>
        <p:sp>
          <p:nvSpPr>
            <p:cNvPr id="227" name=""/>
            <p:cNvSpPr/>
            <p:nvPr/>
          </p:nvSpPr>
          <p:spPr>
            <a:xfrm>
              <a:off x="6248520" y="320040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362280" y="32004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 rot="5400000">
              <a:off x="6305400" y="325764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5400000">
              <a:off x="6324120" y="320040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"/>
          <p:cNvSpPr/>
          <p:nvPr/>
        </p:nvSpPr>
        <p:spPr>
          <a:xfrm>
            <a:off x="228600" y="2057400"/>
            <a:ext cx="7621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&lt;Interfa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NifIfNotif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28600" y="2362320"/>
            <a:ext cx="7621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Progress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76520" y="2286000"/>
            <a:ext cx="13716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Configura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676520" y="2438280"/>
            <a:ext cx="1371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New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Run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ontro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onfigureNetwork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SendIoctlMessage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Deregister(in caus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Dow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AsyncDelet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52280" y="350532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52280" y="365760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143000" y="4724280"/>
            <a:ext cx="11430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Null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143000" y="4876920"/>
            <a:ext cx="11430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2971800"/>
            <a:ext cx="18288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AsyncDaemonCanc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124080"/>
            <a:ext cx="182880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ancelContro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CancelControl(in operation mask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AsyncDelet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733920" y="5181480"/>
            <a:ext cx="11430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ConfigurationI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733920" y="5334120"/>
            <a:ext cx="11430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334120" y="5181480"/>
            <a:ext cx="13716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334120" y="5334120"/>
            <a:ext cx="13716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019920" y="2666880"/>
            <a:ext cx="121896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DaemonProgre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019920" y="2819520"/>
            <a:ext cx="121896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ProgressNotificatio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CancelContro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AsyncDelet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86200" y="68580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Activ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886200" y="838080"/>
            <a:ext cx="9144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543800" y="3276720"/>
            <a:ext cx="12193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AsyncConnect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43800" y="3429000"/>
            <a:ext cx="12193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reateSessio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553080" y="68580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Session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553080" y="838080"/>
            <a:ext cx="9144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33520" y="251460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1066680" y="3581280"/>
            <a:ext cx="152640" cy="152280"/>
            <a:chOff x="1066680" y="3581280"/>
            <a:chExt cx="152640" cy="152280"/>
          </a:xfrm>
        </p:grpSpPr>
        <p:sp>
          <p:nvSpPr>
            <p:cNvPr id="255" name=""/>
            <p:cNvSpPr/>
            <p:nvPr/>
          </p:nvSpPr>
          <p:spPr>
            <a:xfrm rot="5400000">
              <a:off x="1104840" y="361908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 flipV="1" rot="5400000">
              <a:off x="1028520" y="361872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7" name=""/>
          <p:cNvSpPr/>
          <p:nvPr/>
        </p:nvSpPr>
        <p:spPr>
          <a:xfrm>
            <a:off x="1905120" y="3581280"/>
            <a:ext cx="152280" cy="1526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1486800" y="3276720"/>
            <a:ext cx="745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514600" y="3581280"/>
            <a:ext cx="152280" cy="1526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0" name=""/>
          <p:cNvCxnSpPr>
            <a:stCxn id="257" idx="3"/>
            <a:endCxn id="237" idx="0"/>
          </p:cNvCxnSpPr>
          <p:nvPr/>
        </p:nvCxnSpPr>
        <p:spPr>
          <a:xfrm rot="5400000">
            <a:off x="1352160" y="4095720"/>
            <a:ext cx="991080" cy="2671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61" name=""/>
          <p:cNvGrpSpPr/>
          <p:nvPr/>
        </p:nvGrpSpPr>
        <p:grpSpPr>
          <a:xfrm>
            <a:off x="990720" y="2133360"/>
            <a:ext cx="228600" cy="228960"/>
            <a:chOff x="990720" y="2133360"/>
            <a:chExt cx="228600" cy="228960"/>
          </a:xfrm>
        </p:grpSpPr>
        <p:sp>
          <p:nvSpPr>
            <p:cNvPr id="262" name=""/>
            <p:cNvSpPr/>
            <p:nvPr/>
          </p:nvSpPr>
          <p:spPr>
            <a:xfrm rot="16200000">
              <a:off x="961920" y="216180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990720" y="224820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105200" y="213372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990720" y="221004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1447560" y="3352320"/>
            <a:ext cx="228600" cy="228960"/>
            <a:chOff x="1447560" y="3352320"/>
            <a:chExt cx="228600" cy="228960"/>
          </a:xfrm>
        </p:grpSpPr>
        <p:sp>
          <p:nvSpPr>
            <p:cNvPr id="267" name=""/>
            <p:cNvSpPr/>
            <p:nvPr/>
          </p:nvSpPr>
          <p:spPr>
            <a:xfrm rot="5400000">
              <a:off x="1476000" y="338112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H="1">
              <a:off x="1523880" y="346644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rot="10800000">
              <a:off x="1447560" y="335232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rot="10800000">
              <a:off x="1599840" y="342864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71" name=""/>
          <p:cNvCxnSpPr>
            <a:stCxn id="259" idx="3"/>
            <a:endCxn id="241" idx="1"/>
          </p:cNvCxnSpPr>
          <p:nvPr/>
        </p:nvCxnSpPr>
        <p:spPr>
          <a:xfrm flipH="1" rot="16200000">
            <a:off x="2399400" y="3924000"/>
            <a:ext cx="1524600" cy="11437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2" name=""/>
          <p:cNvCxnSpPr>
            <a:stCxn id="270" idx="3"/>
            <a:endCxn id="255" idx="0"/>
          </p:cNvCxnSpPr>
          <p:nvPr/>
        </p:nvCxnSpPr>
        <p:spPr>
          <a:xfrm flipV="1" rot="10800000">
            <a:off x="1218600" y="3466080"/>
            <a:ext cx="381600" cy="191160"/>
          </a:xfrm>
          <a:prstGeom prst="bentConnector3">
            <a:avLst>
              <a:gd name="adj1" fmla="val 4995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3" name=""/>
          <p:cNvCxnSpPr>
            <a:stCxn id="253" idx="3"/>
            <a:endCxn id="235" idx="0"/>
          </p:cNvCxnSpPr>
          <p:nvPr/>
        </p:nvCxnSpPr>
        <p:spPr>
          <a:xfrm flipV="1" rot="10800000">
            <a:off x="608760" y="2666520"/>
            <a:ext cx="1080" cy="8391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4" name=""/>
          <p:cNvCxnSpPr>
            <a:stCxn id="265" idx="3"/>
            <a:endCxn id="233" idx="1"/>
          </p:cNvCxnSpPr>
          <p:nvPr/>
        </p:nvCxnSpPr>
        <p:spPr>
          <a:xfrm>
            <a:off x="1066680" y="2247840"/>
            <a:ext cx="610560" cy="11520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5" name=""/>
          <p:cNvCxnSpPr>
            <a:stCxn id="276" idx="3"/>
            <a:endCxn id="243" idx="1"/>
          </p:cNvCxnSpPr>
          <p:nvPr/>
        </p:nvCxnSpPr>
        <p:spPr>
          <a:xfrm>
            <a:off x="5028840" y="5257440"/>
            <a:ext cx="305640" cy="1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76" name=""/>
          <p:cNvSpPr/>
          <p:nvPr/>
        </p:nvSpPr>
        <p:spPr>
          <a:xfrm rot="16200000">
            <a:off x="4876560" y="5181480"/>
            <a:ext cx="15264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4343400"/>
            <a:ext cx="19810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7162920" y="4495680"/>
            <a:ext cx="19810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onfigur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Ioct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ance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Deregister(in cause, out action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ogressNotificationout progress info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Cancel(in operation mask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Dow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6933960" y="4952520"/>
            <a:ext cx="228600" cy="228960"/>
            <a:chOff x="6933960" y="4952520"/>
            <a:chExt cx="228600" cy="228960"/>
          </a:xfrm>
        </p:grpSpPr>
        <p:sp>
          <p:nvSpPr>
            <p:cNvPr id="280" name=""/>
            <p:cNvSpPr/>
            <p:nvPr/>
          </p:nvSpPr>
          <p:spPr>
            <a:xfrm rot="5400000">
              <a:off x="6962400" y="498132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>
              <a:off x="7010280" y="506664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10800000">
              <a:off x="6933960" y="495252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10800000">
              <a:off x="7086240" y="502884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84" name=""/>
          <p:cNvCxnSpPr>
            <a:stCxn id="283" idx="3"/>
            <a:endCxn id="243" idx="3"/>
          </p:cNvCxnSpPr>
          <p:nvPr/>
        </p:nvCxnSpPr>
        <p:spPr>
          <a:xfrm flipV="1" rot="10800000">
            <a:off x="6705000" y="5066280"/>
            <a:ext cx="381600" cy="191160"/>
          </a:xfrm>
          <a:prstGeom prst="bentConnector3">
            <a:avLst>
              <a:gd name="adj1" fmla="val 49952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85" name=""/>
          <p:cNvGrpSpPr/>
          <p:nvPr/>
        </p:nvGrpSpPr>
        <p:grpSpPr>
          <a:xfrm>
            <a:off x="6933960" y="4419360"/>
            <a:ext cx="228600" cy="228960"/>
            <a:chOff x="6933960" y="4419360"/>
            <a:chExt cx="228600" cy="228960"/>
          </a:xfrm>
        </p:grpSpPr>
        <p:sp>
          <p:nvSpPr>
            <p:cNvPr id="286" name=""/>
            <p:cNvSpPr/>
            <p:nvPr/>
          </p:nvSpPr>
          <p:spPr>
            <a:xfrm rot="5400000">
              <a:off x="6962400" y="444816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>
              <a:off x="7010280" y="45334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rot="10800000">
              <a:off x="6933960" y="441936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rot="10800000">
              <a:off x="7086240" y="449568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90" name=""/>
          <p:cNvCxnSpPr>
            <a:stCxn id="289" idx="3"/>
            <a:endCxn id="246" idx="2"/>
          </p:cNvCxnSpPr>
          <p:nvPr/>
        </p:nvCxnSpPr>
        <p:spPr>
          <a:xfrm rot="10800000">
            <a:off x="6628680" y="3199680"/>
            <a:ext cx="457920" cy="13341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91" name=""/>
          <p:cNvGrpSpPr/>
          <p:nvPr/>
        </p:nvGrpSpPr>
        <p:grpSpPr>
          <a:xfrm>
            <a:off x="4419360" y="3505320"/>
            <a:ext cx="228960" cy="228600"/>
            <a:chOff x="4419360" y="3505320"/>
            <a:chExt cx="228960" cy="228600"/>
          </a:xfrm>
        </p:grpSpPr>
        <p:sp>
          <p:nvSpPr>
            <p:cNvPr id="292" name=""/>
            <p:cNvSpPr/>
            <p:nvPr/>
          </p:nvSpPr>
          <p:spPr>
            <a:xfrm>
              <a:off x="4419720" y="350532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533480" y="35053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 rot="5400000">
              <a:off x="4476600" y="356256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 rot="5400000">
              <a:off x="4495320" y="350532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5562720" y="5029200"/>
            <a:ext cx="152280" cy="151560"/>
            <a:chOff x="5562720" y="5029200"/>
            <a:chExt cx="152280" cy="151560"/>
          </a:xfrm>
        </p:grpSpPr>
        <p:sp>
          <p:nvSpPr>
            <p:cNvPr id="297" name=""/>
            <p:cNvSpPr/>
            <p:nvPr/>
          </p:nvSpPr>
          <p:spPr>
            <a:xfrm>
              <a:off x="5562720" y="502920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 flipV="1">
              <a:off x="5562720" y="510444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" name=""/>
          <p:cNvGrpSpPr/>
          <p:nvPr/>
        </p:nvGrpSpPr>
        <p:grpSpPr>
          <a:xfrm>
            <a:off x="6172200" y="5029200"/>
            <a:ext cx="152280" cy="151560"/>
            <a:chOff x="6172200" y="5029200"/>
            <a:chExt cx="152280" cy="151560"/>
          </a:xfrm>
        </p:grpSpPr>
        <p:sp>
          <p:nvSpPr>
            <p:cNvPr id="300" name=""/>
            <p:cNvSpPr/>
            <p:nvPr/>
          </p:nvSpPr>
          <p:spPr>
            <a:xfrm>
              <a:off x="6172200" y="502920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 flipV="1">
              <a:off x="6172200" y="510444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02" name=""/>
          <p:cNvCxnSpPr>
            <a:stCxn id="295" idx="3"/>
            <a:endCxn id="297" idx="0"/>
          </p:cNvCxnSpPr>
          <p:nvPr/>
        </p:nvCxnSpPr>
        <p:spPr>
          <a:xfrm flipH="1" rot="16200000">
            <a:off x="4361400" y="3752640"/>
            <a:ext cx="1448640" cy="1105560"/>
          </a:xfrm>
          <a:prstGeom prst="bentConnector3">
            <a:avLst>
              <a:gd name="adj1" fmla="val 49987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3" name=""/>
          <p:cNvCxnSpPr>
            <a:stCxn id="230" idx="3"/>
            <a:endCxn id="300" idx="0"/>
          </p:cNvCxnSpPr>
          <p:nvPr/>
        </p:nvCxnSpPr>
        <p:spPr>
          <a:xfrm rot="5400000">
            <a:off x="5428440" y="4095720"/>
            <a:ext cx="1753200" cy="11484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04" name=""/>
          <p:cNvSpPr/>
          <p:nvPr/>
        </p:nvSpPr>
        <p:spPr>
          <a:xfrm>
            <a:off x="8077320" y="3581280"/>
            <a:ext cx="152280" cy="1526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5" name=""/>
          <p:cNvCxnSpPr>
            <a:stCxn id="304" idx="3"/>
            <a:endCxn id="277" idx="0"/>
          </p:cNvCxnSpPr>
          <p:nvPr/>
        </p:nvCxnSpPr>
        <p:spPr>
          <a:xfrm flipV="1" rot="10800000">
            <a:off x="8152560" y="3733560"/>
            <a:ext cx="1080" cy="6102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06" name=""/>
          <p:cNvSpPr/>
          <p:nvPr/>
        </p:nvSpPr>
        <p:spPr>
          <a:xfrm>
            <a:off x="6934320" y="99072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7" name=""/>
          <p:cNvCxnSpPr>
            <a:stCxn id="306" idx="3"/>
            <a:endCxn id="249" idx="0"/>
          </p:cNvCxnSpPr>
          <p:nvPr/>
        </p:nvCxnSpPr>
        <p:spPr>
          <a:xfrm flipH="1" rot="16200000">
            <a:off x="6513840" y="1638000"/>
            <a:ext cx="2134440" cy="11437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08" name=""/>
          <p:cNvSpPr/>
          <p:nvPr/>
        </p:nvSpPr>
        <p:spPr>
          <a:xfrm>
            <a:off x="3962520" y="99072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267080" y="990720"/>
            <a:ext cx="15264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572000" y="99072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1" name=""/>
          <p:cNvCxnSpPr>
            <a:stCxn id="308" idx="3"/>
            <a:endCxn id="233" idx="0"/>
          </p:cNvCxnSpPr>
          <p:nvPr/>
        </p:nvCxnSpPr>
        <p:spPr>
          <a:xfrm rot="5400000">
            <a:off x="2628360" y="876240"/>
            <a:ext cx="1143720" cy="16768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2" name=""/>
          <p:cNvCxnSpPr>
            <a:stCxn id="309" idx="3"/>
            <a:endCxn id="239" idx="0"/>
          </p:cNvCxnSpPr>
          <p:nvPr/>
        </p:nvCxnSpPr>
        <p:spPr>
          <a:xfrm flipH="1" rot="16200000">
            <a:off x="3580560" y="1904760"/>
            <a:ext cx="1829520" cy="305640"/>
          </a:xfrm>
          <a:prstGeom prst="bentConnector3">
            <a:avLst>
              <a:gd name="adj1" fmla="val 4999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3" name=""/>
          <p:cNvCxnSpPr>
            <a:stCxn id="310" idx="3"/>
            <a:endCxn id="245" idx="0"/>
          </p:cNvCxnSpPr>
          <p:nvPr/>
        </p:nvCxnSpPr>
        <p:spPr>
          <a:xfrm flipH="1" rot="16200000">
            <a:off x="4875840" y="914040"/>
            <a:ext cx="1524600" cy="1981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14" name=""/>
          <p:cNvSpPr/>
          <p:nvPr/>
        </p:nvSpPr>
        <p:spPr>
          <a:xfrm>
            <a:off x="992520" y="19810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447920" y="2438280"/>
            <a:ext cx="241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144800" y="37339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373400" y="32004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269240" y="35053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335920" y="49528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5945400" y="49528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6098040" y="32004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631200" y="32004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936120" y="42670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631200" y="50292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6936120" y="51055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6" name=""/>
          <p:cNvCxnSpPr>
            <a:stCxn id="223" idx="3"/>
            <a:endCxn id="327" idx="0"/>
          </p:cNvCxnSpPr>
          <p:nvPr/>
        </p:nvCxnSpPr>
        <p:spPr>
          <a:xfrm flipV="1">
            <a:off x="5638320" y="2971080"/>
            <a:ext cx="229320" cy="343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328" name=""/>
          <p:cNvGrpSpPr/>
          <p:nvPr/>
        </p:nvGrpSpPr>
        <p:grpSpPr>
          <a:xfrm>
            <a:off x="5867280" y="2895480"/>
            <a:ext cx="152640" cy="152280"/>
            <a:chOff x="5867280" y="2895480"/>
            <a:chExt cx="152640" cy="152280"/>
          </a:xfrm>
        </p:grpSpPr>
        <p:sp>
          <p:nvSpPr>
            <p:cNvPr id="329" name=""/>
            <p:cNvSpPr/>
            <p:nvPr/>
          </p:nvSpPr>
          <p:spPr>
            <a:xfrm rot="5400000">
              <a:off x="5905440" y="293328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 flipV="1" rot="5400000">
              <a:off x="5829120" y="293292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0" name=""/>
          <p:cNvSpPr/>
          <p:nvPr/>
        </p:nvSpPr>
        <p:spPr>
          <a:xfrm>
            <a:off x="5716800" y="26668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5564520" y="33526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29200" y="3352680"/>
            <a:ext cx="152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352680" y="380880"/>
            <a:ext cx="4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2286000" y="-3808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200400" y="-3808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6095880" y="-3808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259092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5780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47712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590920" y="1522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2822040" y="0"/>
            <a:ext cx="835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nfigureNetwork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676520" y="2286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733920" y="304920"/>
            <a:ext cx="1675800" cy="380520"/>
            <a:chOff x="3733920" y="304920"/>
            <a:chExt cx="1675800" cy="380520"/>
          </a:xfrm>
        </p:grpSpPr>
        <p:cxnSp>
          <p:nvCxnSpPr>
            <p:cNvPr id="344" name=""/>
            <p:cNvCxnSpPr>
              <a:stCxn id="345" idx="3"/>
              <a:endCxn id="346" idx="3"/>
            </p:cNvCxnSpPr>
            <p:nvPr/>
          </p:nvCxnSpPr>
          <p:spPr>
            <a:xfrm>
              <a:off x="3809520" y="380880"/>
              <a:ext cx="180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45" name=""/>
            <p:cNvSpPr/>
            <p:nvPr/>
          </p:nvSpPr>
          <p:spPr>
            <a:xfrm>
              <a:off x="3733920" y="304920"/>
              <a:ext cx="759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733920" y="457200"/>
              <a:ext cx="7596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038480" y="38088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tart daemon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8" name=""/>
          <p:cNvSpPr/>
          <p:nvPr/>
        </p:nvSpPr>
        <p:spPr>
          <a:xfrm>
            <a:off x="4648320" y="-380880"/>
            <a:ext cx="12189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NifDaemonProgre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80988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 flipH="1">
            <a:off x="2590920" y="7621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2517120" y="609480"/>
            <a:ext cx="1398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Load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809880" y="99072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809880" y="838080"/>
            <a:ext cx="1447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ewL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4" name=""/>
          <p:cNvGrpSpPr/>
          <p:nvPr/>
        </p:nvGrpSpPr>
        <p:grpSpPr>
          <a:xfrm>
            <a:off x="5181480" y="1143000"/>
            <a:ext cx="1676520" cy="380520"/>
            <a:chOff x="5181480" y="1143000"/>
            <a:chExt cx="1676520" cy="380520"/>
          </a:xfrm>
        </p:grpSpPr>
        <p:cxnSp>
          <p:nvCxnSpPr>
            <p:cNvPr id="355" name=""/>
            <p:cNvCxnSpPr>
              <a:stCxn id="356" idx="3"/>
              <a:endCxn id="357" idx="3"/>
            </p:cNvCxnSpPr>
            <p:nvPr/>
          </p:nvCxnSpPr>
          <p:spPr>
            <a:xfrm>
              <a:off x="5257800" y="121896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56" name=""/>
            <p:cNvSpPr/>
            <p:nvPr/>
          </p:nvSpPr>
          <p:spPr>
            <a:xfrm>
              <a:off x="5181480" y="114300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181480" y="129528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486400" y="121896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onstructL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9" name=""/>
          <p:cNvSpPr/>
          <p:nvPr/>
        </p:nvSpPr>
        <p:spPr>
          <a:xfrm>
            <a:off x="5257800" y="16002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257800" y="1447920"/>
            <a:ext cx="1219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1" name=""/>
          <p:cNvGrpSpPr/>
          <p:nvPr/>
        </p:nvGrpSpPr>
        <p:grpSpPr>
          <a:xfrm>
            <a:off x="5181480" y="1676520"/>
            <a:ext cx="1676520" cy="380520"/>
            <a:chOff x="5181480" y="1676520"/>
            <a:chExt cx="1676520" cy="380520"/>
          </a:xfrm>
        </p:grpSpPr>
        <p:cxnSp>
          <p:nvCxnSpPr>
            <p:cNvPr id="362" name=""/>
            <p:cNvCxnSpPr>
              <a:stCxn id="363" idx="3"/>
              <a:endCxn id="364" idx="3"/>
            </p:cNvCxnSpPr>
            <p:nvPr/>
          </p:nvCxnSpPr>
          <p:spPr>
            <a:xfrm>
              <a:off x="5257800" y="17524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63" name=""/>
            <p:cNvSpPr/>
            <p:nvPr/>
          </p:nvSpPr>
          <p:spPr>
            <a:xfrm>
              <a:off x="5181480" y="16765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181480" y="18288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486400" y="17524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etActiv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6" name=""/>
          <p:cNvSpPr/>
          <p:nvPr/>
        </p:nvSpPr>
        <p:spPr>
          <a:xfrm flipH="1">
            <a:off x="2590920" y="22096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2321640" y="2057400"/>
            <a:ext cx="18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809880" y="243828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802760" y="2286000"/>
            <a:ext cx="51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nfigu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257800" y="28954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105520" y="2743200"/>
            <a:ext cx="1523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mpleted ProgressNotificat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638680" y="23623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086600" y="1523880"/>
            <a:ext cx="99072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One or more progress notifications are reported during the configuration process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4" name=""/>
          <p:cNvCxnSpPr>
            <a:stCxn id="373" idx="1"/>
            <a:endCxn id="371" idx="0"/>
          </p:cNvCxnSpPr>
          <p:nvPr/>
        </p:nvCxnSpPr>
        <p:spPr>
          <a:xfrm flipH="1">
            <a:off x="5866560" y="1758960"/>
            <a:ext cx="1220040" cy="9849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375" name=""/>
          <p:cNvSpPr/>
          <p:nvPr/>
        </p:nvSpPr>
        <p:spPr>
          <a:xfrm flipH="1">
            <a:off x="2590920" y="312408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657600" y="2971800"/>
            <a:ext cx="609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990720" y="2362320"/>
            <a:ext cx="1158840" cy="368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otification is passed to the CNifAgentRef instance and the call is re-issu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8" name=""/>
          <p:cNvCxnSpPr>
            <a:stCxn id="377" idx="3"/>
            <a:endCxn id="376" idx="1"/>
          </p:cNvCxnSpPr>
          <p:nvPr/>
        </p:nvCxnSpPr>
        <p:spPr>
          <a:xfrm>
            <a:off x="2149200" y="2550600"/>
            <a:ext cx="1508760" cy="5137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379" name=""/>
          <p:cNvSpPr/>
          <p:nvPr/>
        </p:nvSpPr>
        <p:spPr>
          <a:xfrm>
            <a:off x="5257800" y="33526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5257800" y="3200400"/>
            <a:ext cx="1219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5181480" y="5867280"/>
            <a:ext cx="1676520" cy="381240"/>
            <a:chOff x="5181480" y="5867280"/>
            <a:chExt cx="1676520" cy="381240"/>
          </a:xfrm>
        </p:grpSpPr>
        <p:cxnSp>
          <p:nvCxnSpPr>
            <p:cNvPr id="382" name=""/>
            <p:cNvCxnSpPr>
              <a:stCxn id="383" idx="3"/>
              <a:endCxn id="384" idx="3"/>
            </p:cNvCxnSpPr>
            <p:nvPr/>
          </p:nvCxnSpPr>
          <p:spPr>
            <a:xfrm>
              <a:off x="5257800" y="5943240"/>
              <a:ext cx="216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83" name=""/>
            <p:cNvSpPr/>
            <p:nvPr/>
          </p:nvSpPr>
          <p:spPr>
            <a:xfrm>
              <a:off x="5181480" y="5867280"/>
              <a:ext cx="76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181480" y="6019920"/>
              <a:ext cx="76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486400" y="594360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6" name=""/>
          <p:cNvSpPr/>
          <p:nvPr/>
        </p:nvSpPr>
        <p:spPr>
          <a:xfrm>
            <a:off x="5029200" y="54864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3809880" y="411480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95680" y="3962520"/>
            <a:ext cx="1524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mpleted Configu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 flipH="1">
            <a:off x="2593440" y="43434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312640" y="4191120"/>
            <a:ext cx="1840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 flipH="1">
            <a:off x="2590920" y="45720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667960" y="4419720"/>
            <a:ext cx="11516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LinkLayerOpe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2971800" y="44956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2590920" y="50292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2940840" y="4876920"/>
            <a:ext cx="609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809880" y="525780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09880" y="5105520"/>
            <a:ext cx="1447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6705720" y="4876920"/>
            <a:ext cx="106668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he progress notification is cancelled using the CAsyncDaemonCancel clas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9" name=""/>
          <p:cNvCxnSpPr>
            <a:stCxn id="398" idx="1"/>
            <a:endCxn id="400" idx="0"/>
          </p:cNvCxnSpPr>
          <p:nvPr/>
        </p:nvCxnSpPr>
        <p:spPr>
          <a:xfrm flipH="1">
            <a:off x="5866560" y="5111280"/>
            <a:ext cx="839160" cy="299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grpSp>
        <p:nvGrpSpPr>
          <p:cNvPr id="401" name=""/>
          <p:cNvGrpSpPr/>
          <p:nvPr/>
        </p:nvGrpSpPr>
        <p:grpSpPr>
          <a:xfrm>
            <a:off x="5181480" y="3429000"/>
            <a:ext cx="1676520" cy="380520"/>
            <a:chOff x="5181480" y="3429000"/>
            <a:chExt cx="1676520" cy="380520"/>
          </a:xfrm>
        </p:grpSpPr>
        <p:cxnSp>
          <p:nvCxnSpPr>
            <p:cNvPr id="402" name=""/>
            <p:cNvCxnSpPr>
              <a:stCxn id="403" idx="3"/>
              <a:endCxn id="404" idx="3"/>
            </p:cNvCxnSpPr>
            <p:nvPr/>
          </p:nvCxnSpPr>
          <p:spPr>
            <a:xfrm>
              <a:off x="5257800" y="350496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03" name=""/>
            <p:cNvSpPr/>
            <p:nvPr/>
          </p:nvSpPr>
          <p:spPr>
            <a:xfrm>
              <a:off x="5181480" y="342900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181480" y="358128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486400" y="350496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etActiv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6" name=""/>
          <p:cNvSpPr/>
          <p:nvPr/>
        </p:nvSpPr>
        <p:spPr>
          <a:xfrm>
            <a:off x="5257800" y="55627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5257800" y="5410080"/>
            <a:ext cx="1219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ancel(progress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3809880" y="647712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4872960" y="6324480"/>
            <a:ext cx="37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flipH="1">
            <a:off x="2590920" y="67057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2593080" y="6553080"/>
            <a:ext cx="1249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DaemonUnload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2362320" y="152280"/>
            <a:ext cx="234720" cy="396252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3581280" y="2438280"/>
            <a:ext cx="235080" cy="167652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3581280" y="990720"/>
            <a:ext cx="235080" cy="9144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4" name=""/>
          <p:cNvGrpSpPr/>
          <p:nvPr/>
        </p:nvGrpSpPr>
        <p:grpSpPr>
          <a:xfrm>
            <a:off x="3733920" y="5562720"/>
            <a:ext cx="1675800" cy="380520"/>
            <a:chOff x="3733920" y="5562720"/>
            <a:chExt cx="1675800" cy="380520"/>
          </a:xfrm>
        </p:grpSpPr>
        <p:cxnSp>
          <p:nvCxnSpPr>
            <p:cNvPr id="415" name=""/>
            <p:cNvCxnSpPr>
              <a:stCxn id="416" idx="3"/>
              <a:endCxn id="417" idx="3"/>
            </p:cNvCxnSpPr>
            <p:nvPr/>
          </p:nvCxnSpPr>
          <p:spPr>
            <a:xfrm>
              <a:off x="3809520" y="5638680"/>
              <a:ext cx="180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16" name=""/>
            <p:cNvSpPr/>
            <p:nvPr/>
          </p:nvSpPr>
          <p:spPr>
            <a:xfrm>
              <a:off x="3733920" y="5562720"/>
              <a:ext cx="759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733920" y="5715000"/>
              <a:ext cx="7596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038480" y="563868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9" name=""/>
          <p:cNvSpPr/>
          <p:nvPr/>
        </p:nvSpPr>
        <p:spPr>
          <a:xfrm>
            <a:off x="3581280" y="51814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3809880" y="7632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505320" y="7621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3505320" y="16002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art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505320" y="51055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pp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3505320" y="59436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s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5334120" y="16002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3809880" y="670572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7" name=""/>
          <p:cNvCxnSpPr>
            <a:stCxn id="421" idx="2"/>
            <a:endCxn id="428" idx="0"/>
          </p:cNvCxnSpPr>
          <p:nvPr/>
        </p:nvCxnSpPr>
        <p:spPr>
          <a:xfrm>
            <a:off x="3885840" y="9903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29" name=""/>
          <p:cNvCxnSpPr>
            <a:stCxn id="430" idx="2"/>
            <a:endCxn id="431" idx="0"/>
          </p:cNvCxnSpPr>
          <p:nvPr/>
        </p:nvCxnSpPr>
        <p:spPr>
          <a:xfrm>
            <a:off x="3885840" y="31237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2" name=""/>
          <p:cNvCxnSpPr>
            <a:stCxn id="433" idx="2"/>
          </p:cNvCxnSpPr>
          <p:nvPr/>
        </p:nvCxnSpPr>
        <p:spPr>
          <a:xfrm>
            <a:off x="3885840" y="3962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4" name=""/>
          <p:cNvCxnSpPr>
            <a:stCxn id="435" idx="2"/>
            <a:endCxn id="426" idx="0"/>
          </p:cNvCxnSpPr>
          <p:nvPr/>
        </p:nvCxnSpPr>
        <p:spPr>
          <a:xfrm>
            <a:off x="3885840" y="65530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6" name=""/>
          <p:cNvCxnSpPr>
            <a:stCxn id="437" idx="3"/>
            <a:endCxn id="425" idx="1"/>
          </p:cNvCxnSpPr>
          <p:nvPr/>
        </p:nvCxnSpPr>
        <p:spPr>
          <a:xfrm>
            <a:off x="5028840" y="171432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8" name=""/>
          <p:cNvCxnSpPr>
            <a:stCxn id="439" idx="0"/>
            <a:endCxn id="425" idx="2"/>
          </p:cNvCxnSpPr>
          <p:nvPr/>
        </p:nvCxnSpPr>
        <p:spPr>
          <a:xfrm flipV="1">
            <a:off x="5714640" y="1828080"/>
            <a:ext cx="108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0" name=""/>
          <p:cNvCxnSpPr>
            <a:stCxn id="441" idx="0"/>
            <a:endCxn id="421" idx="3"/>
          </p:cNvCxnSpPr>
          <p:nvPr/>
        </p:nvCxnSpPr>
        <p:spPr>
          <a:xfrm flipV="1" rot="16200000">
            <a:off x="4818960" y="322920"/>
            <a:ext cx="34380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2" name=""/>
          <p:cNvCxnSpPr>
            <a:stCxn id="443" idx="2"/>
            <a:endCxn id="424" idx="3"/>
          </p:cNvCxnSpPr>
          <p:nvPr/>
        </p:nvCxnSpPr>
        <p:spPr>
          <a:xfrm rot="5400000">
            <a:off x="4209120" y="3866760"/>
            <a:ext cx="2248920" cy="2134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4" name=""/>
          <p:cNvCxnSpPr>
            <a:stCxn id="445" idx="2"/>
            <a:endCxn id="424" idx="1"/>
          </p:cNvCxnSpPr>
          <p:nvPr/>
        </p:nvCxnSpPr>
        <p:spPr>
          <a:xfrm flipH="1" rot="16200000">
            <a:off x="1923840" y="4476240"/>
            <a:ext cx="1258200" cy="1905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6" name=""/>
          <p:cNvCxnSpPr>
            <a:stCxn id="447" idx="2"/>
            <a:endCxn id="421" idx="0"/>
          </p:cNvCxnSpPr>
          <p:nvPr/>
        </p:nvCxnSpPr>
        <p:spPr>
          <a:xfrm>
            <a:off x="3885840" y="533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8" name=""/>
          <p:cNvCxnSpPr>
            <a:stCxn id="420" idx="4"/>
            <a:endCxn id="447" idx="0"/>
          </p:cNvCxnSpPr>
          <p:nvPr/>
        </p:nvCxnSpPr>
        <p:spPr>
          <a:xfrm>
            <a:off x="3885840" y="228600"/>
            <a:ext cx="1080" cy="76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7" name=""/>
          <p:cNvSpPr/>
          <p:nvPr/>
        </p:nvSpPr>
        <p:spPr>
          <a:xfrm>
            <a:off x="3657600" y="304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3657600" y="11430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Connected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NIF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9" name=""/>
          <p:cNvCxnSpPr>
            <a:stCxn id="428" idx="2"/>
            <a:endCxn id="422" idx="0"/>
          </p:cNvCxnSpPr>
          <p:nvPr/>
        </p:nvCxnSpPr>
        <p:spPr>
          <a:xfrm>
            <a:off x="3885840" y="137124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50" name=""/>
          <p:cNvSpPr/>
          <p:nvPr/>
        </p:nvSpPr>
        <p:spPr>
          <a:xfrm>
            <a:off x="3657600" y="1981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Up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1" name=""/>
          <p:cNvCxnSpPr>
            <a:stCxn id="450" idx="0"/>
            <a:endCxn id="422" idx="2"/>
          </p:cNvCxnSpPr>
          <p:nvPr/>
        </p:nvCxnSpPr>
        <p:spPr>
          <a:xfrm flipV="1">
            <a:off x="3885840" y="18280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39" name=""/>
          <p:cNvSpPr/>
          <p:nvPr/>
        </p:nvSpPr>
        <p:spPr>
          <a:xfrm>
            <a:off x="5486400" y="20574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2" name=""/>
          <p:cNvCxnSpPr>
            <a:stCxn id="439" idx="2"/>
            <a:endCxn id="431" idx="3"/>
          </p:cNvCxnSpPr>
          <p:nvPr/>
        </p:nvCxnSpPr>
        <p:spPr>
          <a:xfrm rot="5400000">
            <a:off x="4399920" y="2152440"/>
            <a:ext cx="118188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3" name=""/>
          <p:cNvSpPr/>
          <p:nvPr/>
        </p:nvSpPr>
        <p:spPr>
          <a:xfrm>
            <a:off x="6172200" y="35812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3" name=""/>
          <p:cNvCxnSpPr>
            <a:stCxn id="425" idx="3"/>
            <a:endCxn id="443" idx="0"/>
          </p:cNvCxnSpPr>
          <p:nvPr/>
        </p:nvCxnSpPr>
        <p:spPr>
          <a:xfrm>
            <a:off x="6095520" y="1714320"/>
            <a:ext cx="305640" cy="18673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54" name=""/>
          <p:cNvCxnSpPr>
            <a:stCxn id="422" idx="1"/>
            <a:endCxn id="445" idx="0"/>
          </p:cNvCxnSpPr>
          <p:nvPr/>
        </p:nvCxnSpPr>
        <p:spPr>
          <a:xfrm flipV="1" rot="10800000">
            <a:off x="1599480" y="1713600"/>
            <a:ext cx="1905840" cy="28580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55" name=""/>
          <p:cNvCxnSpPr>
            <a:stCxn id="422" idx="1"/>
            <a:endCxn id="456" idx="0"/>
          </p:cNvCxnSpPr>
          <p:nvPr/>
        </p:nvCxnSpPr>
        <p:spPr>
          <a:xfrm flipV="1" rot="10800000">
            <a:off x="2361600" y="1713600"/>
            <a:ext cx="1143720" cy="20199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56" name=""/>
          <p:cNvSpPr/>
          <p:nvPr/>
        </p:nvSpPr>
        <p:spPr>
          <a:xfrm>
            <a:off x="2133720" y="3733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657600" y="3733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 Complete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7" name=""/>
          <p:cNvCxnSpPr>
            <a:stCxn id="433" idx="0"/>
            <a:endCxn id="431" idx="2"/>
          </p:cNvCxnSpPr>
          <p:nvPr/>
        </p:nvCxnSpPr>
        <p:spPr>
          <a:xfrm flipV="1">
            <a:off x="3885840" y="358092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58" name=""/>
          <p:cNvSpPr/>
          <p:nvPr/>
        </p:nvSpPr>
        <p:spPr>
          <a:xfrm>
            <a:off x="3657600" y="54864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9" name=""/>
          <p:cNvCxnSpPr>
            <a:stCxn id="458" idx="0"/>
            <a:endCxn id="423" idx="2"/>
          </p:cNvCxnSpPr>
          <p:nvPr/>
        </p:nvCxnSpPr>
        <p:spPr>
          <a:xfrm flipV="1">
            <a:off x="3885840" y="53334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35" name=""/>
          <p:cNvSpPr/>
          <p:nvPr/>
        </p:nvSpPr>
        <p:spPr>
          <a:xfrm>
            <a:off x="3657600" y="63244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Stopp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0" name=""/>
          <p:cNvCxnSpPr>
            <a:stCxn id="435" idx="0"/>
            <a:endCxn id="424" idx="2"/>
          </p:cNvCxnSpPr>
          <p:nvPr/>
        </p:nvCxnSpPr>
        <p:spPr>
          <a:xfrm flipV="1">
            <a:off x="3885840" y="61714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61" name=""/>
          <p:cNvCxnSpPr>
            <a:stCxn id="458" idx="2"/>
            <a:endCxn id="424" idx="0"/>
          </p:cNvCxnSpPr>
          <p:nvPr/>
        </p:nvCxnSpPr>
        <p:spPr>
          <a:xfrm>
            <a:off x="3885840" y="571464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2" name=""/>
          <p:cNvCxnSpPr>
            <a:stCxn id="463" idx="1"/>
            <a:endCxn id="464" idx="2"/>
          </p:cNvCxnSpPr>
          <p:nvPr/>
        </p:nvCxnSpPr>
        <p:spPr>
          <a:xfrm rot="10800000">
            <a:off x="3276000" y="3199680"/>
            <a:ext cx="229320" cy="1911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64" name=""/>
          <p:cNvSpPr/>
          <p:nvPr/>
        </p:nvSpPr>
        <p:spPr>
          <a:xfrm>
            <a:off x="3124080" y="2971800"/>
            <a:ext cx="3049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acke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ctiv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5" name=""/>
          <p:cNvCxnSpPr>
            <a:stCxn id="456" idx="2"/>
            <a:endCxn id="466" idx="1"/>
          </p:cNvCxnSpPr>
          <p:nvPr/>
        </p:nvCxnSpPr>
        <p:spPr>
          <a:xfrm flipH="1" rot="16200000">
            <a:off x="2266200" y="4057560"/>
            <a:ext cx="1334160" cy="1143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7" name=""/>
          <p:cNvCxnSpPr>
            <a:stCxn id="464" idx="3"/>
            <a:endCxn id="463" idx="0"/>
          </p:cNvCxnSpPr>
          <p:nvPr/>
        </p:nvCxnSpPr>
        <p:spPr>
          <a:xfrm>
            <a:off x="3429000" y="3086280"/>
            <a:ext cx="115200" cy="2671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7" name=""/>
          <p:cNvSpPr/>
          <p:nvPr/>
        </p:nvSpPr>
        <p:spPr>
          <a:xfrm>
            <a:off x="4572000" y="16002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8" name=""/>
          <p:cNvCxnSpPr>
            <a:stCxn id="437" idx="1"/>
            <a:endCxn id="422" idx="3"/>
          </p:cNvCxnSpPr>
          <p:nvPr/>
        </p:nvCxnSpPr>
        <p:spPr>
          <a:xfrm flipH="1">
            <a:off x="4266360" y="171432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1" name=""/>
          <p:cNvSpPr/>
          <p:nvPr/>
        </p:nvSpPr>
        <p:spPr>
          <a:xfrm>
            <a:off x="5486400" y="1219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 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9" name=""/>
          <p:cNvCxnSpPr>
            <a:stCxn id="425" idx="0"/>
            <a:endCxn id="441" idx="2"/>
          </p:cNvCxnSpPr>
          <p:nvPr/>
        </p:nvCxnSpPr>
        <p:spPr>
          <a:xfrm flipV="1">
            <a:off x="5714640" y="1447200"/>
            <a:ext cx="1080" cy="1530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70" name=""/>
          <p:cNvSpPr/>
          <p:nvPr/>
        </p:nvSpPr>
        <p:spPr>
          <a:xfrm>
            <a:off x="3505320" y="2438280"/>
            <a:ext cx="761760" cy="304920"/>
          </a:xfrm>
          <a:prstGeom prst="roundRect">
            <a:avLst>
              <a:gd name="adj" fmla="val 16667"/>
            </a:avLst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gist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Pseudo Stat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3657600" y="28954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Register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1" name=""/>
          <p:cNvCxnSpPr>
            <a:stCxn id="430" idx="0"/>
            <a:endCxn id="470" idx="2"/>
          </p:cNvCxnSpPr>
          <p:nvPr/>
        </p:nvCxnSpPr>
        <p:spPr>
          <a:xfrm flipV="1">
            <a:off x="3885840" y="27424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2" name=""/>
          <p:cNvCxnSpPr>
            <a:stCxn id="450" idx="2"/>
            <a:endCxn id="470" idx="0"/>
          </p:cNvCxnSpPr>
          <p:nvPr/>
        </p:nvCxnSpPr>
        <p:spPr>
          <a:xfrm>
            <a:off x="3885840" y="22093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3" name=""/>
          <p:cNvCxnSpPr>
            <a:stCxn id="439" idx="2"/>
            <a:endCxn id="470" idx="3"/>
          </p:cNvCxnSpPr>
          <p:nvPr/>
        </p:nvCxnSpPr>
        <p:spPr>
          <a:xfrm rot="5400000">
            <a:off x="4838040" y="1714320"/>
            <a:ext cx="30564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5" name=""/>
          <p:cNvSpPr/>
          <p:nvPr/>
        </p:nvSpPr>
        <p:spPr>
          <a:xfrm>
            <a:off x="1371600" y="45720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4" name=""/>
          <p:cNvCxnSpPr>
            <a:stCxn id="470" idx="1"/>
            <a:endCxn id="475" idx="0"/>
          </p:cNvCxnSpPr>
          <p:nvPr/>
        </p:nvCxnSpPr>
        <p:spPr>
          <a:xfrm flipV="1" rot="10800000">
            <a:off x="2742480" y="2590560"/>
            <a:ext cx="762840" cy="2134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76" name=""/>
          <p:cNvSpPr/>
          <p:nvPr/>
        </p:nvSpPr>
        <p:spPr>
          <a:xfrm>
            <a:off x="3657600" y="4648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Deregistered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7" name=""/>
          <p:cNvCxnSpPr>
            <a:stCxn id="476" idx="0"/>
          </p:cNvCxnSpPr>
          <p:nvPr/>
        </p:nvCxnSpPr>
        <p:spPr>
          <a:xfrm flipV="1">
            <a:off x="3886200" y="4419000"/>
            <a:ext cx="216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8" name=""/>
          <p:cNvCxnSpPr>
            <a:stCxn id="476" idx="2"/>
            <a:endCxn id="423" idx="0"/>
          </p:cNvCxnSpPr>
          <p:nvPr/>
        </p:nvCxnSpPr>
        <p:spPr>
          <a:xfrm>
            <a:off x="3885840" y="48765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9" name=""/>
          <p:cNvSpPr/>
          <p:nvPr/>
        </p:nvSpPr>
        <p:spPr>
          <a:xfrm>
            <a:off x="5257800" y="4191120"/>
            <a:ext cx="762120" cy="304560"/>
          </a:xfrm>
          <a:prstGeom prst="roundRect">
            <a:avLst>
              <a:gd name="adj" fmla="val 16667"/>
            </a:avLst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rma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Pseudo Stat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4495680" y="4038480"/>
            <a:ext cx="5335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ed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eserv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1" name=""/>
          <p:cNvCxnSpPr>
            <a:stCxn id="480" idx="1"/>
            <a:endCxn id="482" idx="3"/>
          </p:cNvCxnSpPr>
          <p:nvPr/>
        </p:nvCxnSpPr>
        <p:spPr>
          <a:xfrm flipV="1" rot="10800000">
            <a:off x="4266360" y="4152960"/>
            <a:ext cx="22932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3" name=""/>
          <p:cNvCxnSpPr>
            <a:stCxn id="480" idx="3"/>
            <a:endCxn id="484" idx="1"/>
          </p:cNvCxnSpPr>
          <p:nvPr/>
        </p:nvCxnSpPr>
        <p:spPr>
          <a:xfrm>
            <a:off x="5028840" y="4152960"/>
            <a:ext cx="22932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5" name=""/>
          <p:cNvSpPr/>
          <p:nvPr/>
        </p:nvSpPr>
        <p:spPr>
          <a:xfrm>
            <a:off x="4572000" y="4419720"/>
            <a:ext cx="380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6" name=""/>
          <p:cNvCxnSpPr>
            <a:stCxn id="487" idx="1"/>
            <a:endCxn id="485" idx="3"/>
          </p:cNvCxnSpPr>
          <p:nvPr/>
        </p:nvCxnSpPr>
        <p:spPr>
          <a:xfrm flipV="1" rot="10800000">
            <a:off x="4952160" y="4456800"/>
            <a:ext cx="30564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8" name=""/>
          <p:cNvCxnSpPr>
            <a:stCxn id="485" idx="1"/>
            <a:endCxn id="489" idx="3"/>
          </p:cNvCxnSpPr>
          <p:nvPr/>
        </p:nvCxnSpPr>
        <p:spPr>
          <a:xfrm rot="10800000">
            <a:off x="4266360" y="4444200"/>
            <a:ext cx="305640" cy="8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490" name=""/>
          <p:cNvGrpSpPr/>
          <p:nvPr/>
        </p:nvGrpSpPr>
        <p:grpSpPr>
          <a:xfrm>
            <a:off x="3505320" y="4191120"/>
            <a:ext cx="761760" cy="304200"/>
            <a:chOff x="3505320" y="4191120"/>
            <a:chExt cx="761760" cy="304200"/>
          </a:xfrm>
        </p:grpSpPr>
        <p:sp>
          <p:nvSpPr>
            <p:cNvPr id="491" name=""/>
            <p:cNvSpPr/>
            <p:nvPr/>
          </p:nvSpPr>
          <p:spPr>
            <a:xfrm>
              <a:off x="3505320" y="4191120"/>
              <a:ext cx="761760" cy="304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eregistration</a:t>
              </a:r>
              <a:br>
                <a:rPr sz="800"/>
              </a:b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(New State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191120" y="4393800"/>
              <a:ext cx="75960" cy="10152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2" name=""/>
          <p:cNvSpPr/>
          <p:nvPr/>
        </p:nvSpPr>
        <p:spPr>
          <a:xfrm>
            <a:off x="4724280" y="3581280"/>
            <a:ext cx="60984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ormant Exited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3" name=""/>
          <p:cNvCxnSpPr>
            <a:stCxn id="479" idx="0"/>
            <a:endCxn id="492" idx="3"/>
          </p:cNvCxnSpPr>
          <p:nvPr/>
        </p:nvCxnSpPr>
        <p:spPr>
          <a:xfrm flipV="1" rot="16200000">
            <a:off x="5238360" y="3790440"/>
            <a:ext cx="496080" cy="3052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4" name=""/>
          <p:cNvCxnSpPr>
            <a:stCxn id="492" idx="1"/>
            <a:endCxn id="495" idx="3"/>
          </p:cNvCxnSpPr>
          <p:nvPr/>
        </p:nvCxnSpPr>
        <p:spPr>
          <a:xfrm rot="10800000">
            <a:off x="4266360" y="3542760"/>
            <a:ext cx="457920" cy="153000"/>
          </a:xfrm>
          <a:prstGeom prst="bentConnector3">
            <a:avLst>
              <a:gd name="adj1" fmla="val 499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6" name=""/>
          <p:cNvCxnSpPr>
            <a:stCxn id="491" idx="1"/>
            <a:endCxn id="445" idx="0"/>
          </p:cNvCxnSpPr>
          <p:nvPr/>
        </p:nvCxnSpPr>
        <p:spPr>
          <a:xfrm flipV="1" rot="10800000">
            <a:off x="1599480" y="4342320"/>
            <a:ext cx="190584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497" name=""/>
          <p:cNvGrpSpPr/>
          <p:nvPr/>
        </p:nvGrpSpPr>
        <p:grpSpPr>
          <a:xfrm>
            <a:off x="3505320" y="3352680"/>
            <a:ext cx="761760" cy="228600"/>
            <a:chOff x="3505320" y="3352680"/>
            <a:chExt cx="761760" cy="228600"/>
          </a:xfrm>
        </p:grpSpPr>
        <p:grpSp>
          <p:nvGrpSpPr>
            <p:cNvPr id="498" name=""/>
            <p:cNvGrpSpPr/>
            <p:nvPr/>
          </p:nvGrpSpPr>
          <p:grpSpPr>
            <a:xfrm>
              <a:off x="3505320" y="3352680"/>
              <a:ext cx="761760" cy="228600"/>
              <a:chOff x="3505320" y="3352680"/>
              <a:chExt cx="761760" cy="228600"/>
            </a:xfrm>
          </p:grpSpPr>
          <p:sp>
            <p:nvSpPr>
              <p:cNvPr id="431" name=""/>
              <p:cNvSpPr/>
              <p:nvPr/>
            </p:nvSpPr>
            <p:spPr>
              <a:xfrm>
                <a:off x="3505320" y="3352680"/>
                <a:ext cx="761760" cy="228600"/>
              </a:xfrm>
              <a:prstGeom prst="roundRect">
                <a:avLst>
                  <a:gd name="adj" fmla="val 16667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Link Up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4191120" y="3505320"/>
                <a:ext cx="75960" cy="7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9" name=""/>
            <p:cNvSpPr/>
            <p:nvPr/>
          </p:nvSpPr>
          <p:spPr>
            <a:xfrm>
              <a:off x="3505320" y="3352680"/>
              <a:ext cx="759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0" name=""/>
          <p:cNvSpPr/>
          <p:nvPr/>
        </p:nvSpPr>
        <p:spPr>
          <a:xfrm>
            <a:off x="3505320" y="35053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895480" y="38098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2" name=""/>
          <p:cNvCxnSpPr>
            <a:stCxn id="500" idx="1"/>
            <a:endCxn id="501" idx="0"/>
          </p:cNvCxnSpPr>
          <p:nvPr/>
        </p:nvCxnSpPr>
        <p:spPr>
          <a:xfrm flipV="1" rot="10800000">
            <a:off x="3123360" y="3543120"/>
            <a:ext cx="381960" cy="2671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03" name=""/>
          <p:cNvSpPr/>
          <p:nvPr/>
        </p:nvSpPr>
        <p:spPr>
          <a:xfrm>
            <a:off x="3505320" y="41911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4" name=""/>
          <p:cNvCxnSpPr>
            <a:stCxn id="501" idx="2"/>
            <a:endCxn id="503" idx="1"/>
          </p:cNvCxnSpPr>
          <p:nvPr/>
        </p:nvCxnSpPr>
        <p:spPr>
          <a:xfrm flipH="1" rot="16200000">
            <a:off x="3218400" y="3943080"/>
            <a:ext cx="191520" cy="381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5" name=""/>
          <p:cNvSpPr/>
          <p:nvPr/>
        </p:nvSpPr>
        <p:spPr>
          <a:xfrm>
            <a:off x="3657600" y="4343400"/>
            <a:ext cx="7632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5715000" y="4343400"/>
            <a:ext cx="7632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4648320" y="51055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uthoritativ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8" name=""/>
          <p:cNvCxnSpPr>
            <a:stCxn id="479" idx="2"/>
            <a:endCxn id="507" idx="3"/>
          </p:cNvCxnSpPr>
          <p:nvPr/>
        </p:nvCxnSpPr>
        <p:spPr>
          <a:xfrm rot="5400000">
            <a:off x="5009400" y="4590720"/>
            <a:ext cx="724680" cy="5338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9" name=""/>
          <p:cNvCxnSpPr>
            <a:stCxn id="507" idx="1"/>
            <a:endCxn id="423" idx="3"/>
          </p:cNvCxnSpPr>
          <p:nvPr/>
        </p:nvCxnSpPr>
        <p:spPr>
          <a:xfrm flipH="1">
            <a:off x="4266360" y="5219280"/>
            <a:ext cx="3819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5" name=""/>
          <p:cNvSpPr/>
          <p:nvPr/>
        </p:nvSpPr>
        <p:spPr>
          <a:xfrm>
            <a:off x="2514600" y="47242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uthoritativ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0" name=""/>
          <p:cNvCxnSpPr>
            <a:stCxn id="431" idx="1"/>
            <a:endCxn id="475" idx="0"/>
          </p:cNvCxnSpPr>
          <p:nvPr/>
        </p:nvCxnSpPr>
        <p:spPr>
          <a:xfrm flipV="1" rot="10800000">
            <a:off x="2742480" y="3466800"/>
            <a:ext cx="762840" cy="1257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1" name=""/>
          <p:cNvSpPr/>
          <p:nvPr/>
        </p:nvSpPr>
        <p:spPr>
          <a:xfrm>
            <a:off x="3505320" y="434340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2" name=""/>
          <p:cNvCxnSpPr>
            <a:stCxn id="513" idx="1"/>
            <a:endCxn id="475" idx="0"/>
          </p:cNvCxnSpPr>
          <p:nvPr/>
        </p:nvCxnSpPr>
        <p:spPr>
          <a:xfrm flipV="1" rot="10800000">
            <a:off x="2742480" y="4457520"/>
            <a:ext cx="762840" cy="2671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14" name=""/>
          <p:cNvCxnSpPr>
            <a:stCxn id="475" idx="2"/>
            <a:endCxn id="515" idx="1"/>
          </p:cNvCxnSpPr>
          <p:nvPr/>
        </p:nvCxnSpPr>
        <p:spPr>
          <a:xfrm flipH="1" rot="16200000">
            <a:off x="3027960" y="4667040"/>
            <a:ext cx="191520" cy="762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16" name=""/>
          <p:cNvSpPr/>
          <p:nvPr/>
        </p:nvSpPr>
        <p:spPr>
          <a:xfrm>
            <a:off x="3505320" y="51055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3505320" y="51055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5257800" y="44197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5257800" y="41911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7" name=""/>
          <p:cNvCxnSpPr>
            <a:stCxn id="470" idx="1"/>
            <a:endCxn id="501" idx="0"/>
          </p:cNvCxnSpPr>
          <p:nvPr/>
        </p:nvCxnSpPr>
        <p:spPr>
          <a:xfrm flipV="1" rot="10800000">
            <a:off x="3123360" y="2590560"/>
            <a:ext cx="381960" cy="1219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63" name=""/>
          <p:cNvSpPr/>
          <p:nvPr/>
        </p:nvSpPr>
        <p:spPr>
          <a:xfrm>
            <a:off x="3505320" y="335268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4191120" y="41911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1752480" y="5410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9" name=""/>
          <p:cNvCxnSpPr>
            <a:stCxn id="491" idx="1"/>
            <a:endCxn id="518" idx="0"/>
          </p:cNvCxnSpPr>
          <p:nvPr/>
        </p:nvCxnSpPr>
        <p:spPr>
          <a:xfrm flipV="1" rot="10800000">
            <a:off x="1980360" y="4342320"/>
            <a:ext cx="1524960" cy="10674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20" name=""/>
          <p:cNvCxnSpPr>
            <a:stCxn id="518" idx="2"/>
            <a:endCxn id="424" idx="1"/>
          </p:cNvCxnSpPr>
          <p:nvPr/>
        </p:nvCxnSpPr>
        <p:spPr>
          <a:xfrm flipH="1" rot="16200000">
            <a:off x="2533320" y="5085720"/>
            <a:ext cx="420120" cy="1524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1" name=""/>
          <p:cNvCxnSpPr>
            <a:stCxn id="499" idx="1"/>
            <a:endCxn id="445" idx="0"/>
          </p:cNvCxnSpPr>
          <p:nvPr/>
        </p:nvCxnSpPr>
        <p:spPr>
          <a:xfrm flipV="1" rot="10800000">
            <a:off x="1599480" y="3389760"/>
            <a:ext cx="1905840" cy="11818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522" name=""/>
          <p:cNvGrpSpPr/>
          <p:nvPr/>
        </p:nvGrpSpPr>
        <p:grpSpPr>
          <a:xfrm>
            <a:off x="2286000" y="3352680"/>
            <a:ext cx="152280" cy="76320"/>
            <a:chOff x="2286000" y="3352680"/>
            <a:chExt cx="152280" cy="76320"/>
          </a:xfrm>
        </p:grpSpPr>
        <p:sp>
          <p:nvSpPr>
            <p:cNvPr id="523" name=""/>
            <p:cNvSpPr/>
            <p:nvPr/>
          </p:nvSpPr>
          <p:spPr>
            <a:xfrm>
              <a:off x="2286000" y="3352680"/>
              <a:ext cx="15228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2286000" y="3390840"/>
              <a:ext cx="152280" cy="38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361960" y="33526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6" name=""/>
          <p:cNvGrpSpPr/>
          <p:nvPr/>
        </p:nvGrpSpPr>
        <p:grpSpPr>
          <a:xfrm>
            <a:off x="3048120" y="3429000"/>
            <a:ext cx="152280" cy="76320"/>
            <a:chOff x="3048120" y="3429000"/>
            <a:chExt cx="152280" cy="76320"/>
          </a:xfrm>
        </p:grpSpPr>
        <p:sp>
          <p:nvSpPr>
            <p:cNvPr id="527" name=""/>
            <p:cNvSpPr/>
            <p:nvPr/>
          </p:nvSpPr>
          <p:spPr>
            <a:xfrm>
              <a:off x="3048120" y="3429000"/>
              <a:ext cx="15228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048120" y="3467160"/>
              <a:ext cx="152280" cy="38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124080" y="34290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0" name=""/>
          <p:cNvGrpSpPr/>
          <p:nvPr/>
        </p:nvGrpSpPr>
        <p:grpSpPr>
          <a:xfrm>
            <a:off x="2286000" y="4267080"/>
            <a:ext cx="152280" cy="152640"/>
            <a:chOff x="2286000" y="4267080"/>
            <a:chExt cx="152280" cy="152640"/>
          </a:xfrm>
        </p:grpSpPr>
        <p:sp>
          <p:nvSpPr>
            <p:cNvPr id="531" name=""/>
            <p:cNvSpPr/>
            <p:nvPr/>
          </p:nvSpPr>
          <p:spPr>
            <a:xfrm>
              <a:off x="2286000" y="42670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2286000" y="4343400"/>
              <a:ext cx="152280" cy="7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2361960" y="4267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4" name=""/>
          <p:cNvGrpSpPr/>
          <p:nvPr/>
        </p:nvGrpSpPr>
        <p:grpSpPr>
          <a:xfrm>
            <a:off x="2666880" y="4267080"/>
            <a:ext cx="152640" cy="152640"/>
            <a:chOff x="2666880" y="4267080"/>
            <a:chExt cx="152640" cy="152640"/>
          </a:xfrm>
        </p:grpSpPr>
        <p:sp>
          <p:nvSpPr>
            <p:cNvPr id="535" name=""/>
            <p:cNvSpPr/>
            <p:nvPr/>
          </p:nvSpPr>
          <p:spPr>
            <a:xfrm>
              <a:off x="2666880" y="4267080"/>
              <a:ext cx="152640" cy="152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2666880" y="4343400"/>
              <a:ext cx="152640" cy="7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2742840" y="4267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8" name=""/>
          <p:cNvSpPr/>
          <p:nvPr/>
        </p:nvSpPr>
        <p:spPr>
          <a:xfrm>
            <a:off x="3505320" y="5259240"/>
            <a:ext cx="75960" cy="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505320" y="525780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3505320" y="44197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2995560" y="2305080"/>
            <a:ext cx="3229200" cy="2557440"/>
          </a:xfrm>
          <a:custGeom>
            <a:avLst/>
            <a:gdLst/>
            <a:ahLst/>
            <a:rect l="l" t="t" r="r" b="b"/>
            <a:pathLst>
              <a:path w="2034" h="1611">
                <a:moveTo>
                  <a:pt x="141" y="96"/>
                </a:moveTo>
                <a:cubicBezTo>
                  <a:pt x="72" y="144"/>
                  <a:pt x="0" y="273"/>
                  <a:pt x="12" y="366"/>
                </a:cubicBezTo>
                <a:cubicBezTo>
                  <a:pt x="15" y="436"/>
                  <a:pt x="1" y="438"/>
                  <a:pt x="18" y="480"/>
                </a:cubicBezTo>
                <a:cubicBezTo>
                  <a:pt x="23" y="523"/>
                  <a:pt x="19" y="560"/>
                  <a:pt x="42" y="624"/>
                </a:cubicBezTo>
                <a:cubicBezTo>
                  <a:pt x="65" y="688"/>
                  <a:pt x="123" y="807"/>
                  <a:pt x="159" y="867"/>
                </a:cubicBezTo>
                <a:cubicBezTo>
                  <a:pt x="167" y="879"/>
                  <a:pt x="245" y="979"/>
                  <a:pt x="257" y="987"/>
                </a:cubicBezTo>
                <a:cubicBezTo>
                  <a:pt x="315" y="1026"/>
                  <a:pt x="381" y="1035"/>
                  <a:pt x="449" y="1041"/>
                </a:cubicBezTo>
                <a:cubicBezTo>
                  <a:pt x="525" y="1039"/>
                  <a:pt x="601" y="1039"/>
                  <a:pt x="677" y="1035"/>
                </a:cubicBezTo>
                <a:cubicBezTo>
                  <a:pt x="709" y="1033"/>
                  <a:pt x="747" y="1014"/>
                  <a:pt x="779" y="1005"/>
                </a:cubicBezTo>
                <a:cubicBezTo>
                  <a:pt x="831" y="990"/>
                  <a:pt x="884" y="980"/>
                  <a:pt x="935" y="963"/>
                </a:cubicBezTo>
                <a:cubicBezTo>
                  <a:pt x="1019" y="973"/>
                  <a:pt x="1155" y="968"/>
                  <a:pt x="1218" y="1017"/>
                </a:cubicBezTo>
                <a:cubicBezTo>
                  <a:pt x="1287" y="1074"/>
                  <a:pt x="1291" y="1195"/>
                  <a:pt x="1311" y="1254"/>
                </a:cubicBezTo>
                <a:cubicBezTo>
                  <a:pt x="1318" y="1307"/>
                  <a:pt x="1342" y="1407"/>
                  <a:pt x="1368" y="1458"/>
                </a:cubicBezTo>
                <a:cubicBezTo>
                  <a:pt x="1426" y="1575"/>
                  <a:pt x="1506" y="1584"/>
                  <a:pt x="1625" y="1599"/>
                </a:cubicBezTo>
                <a:cubicBezTo>
                  <a:pt x="1659" y="1603"/>
                  <a:pt x="1693" y="1607"/>
                  <a:pt x="1727" y="1611"/>
                </a:cubicBezTo>
                <a:cubicBezTo>
                  <a:pt x="1755" y="1609"/>
                  <a:pt x="1783" y="1609"/>
                  <a:pt x="1811" y="1605"/>
                </a:cubicBezTo>
                <a:cubicBezTo>
                  <a:pt x="1824" y="1603"/>
                  <a:pt x="1847" y="1593"/>
                  <a:pt x="1847" y="1593"/>
                </a:cubicBezTo>
                <a:cubicBezTo>
                  <a:pt x="1863" y="1577"/>
                  <a:pt x="1885" y="1567"/>
                  <a:pt x="1901" y="1551"/>
                </a:cubicBezTo>
                <a:cubicBezTo>
                  <a:pt x="1930" y="1522"/>
                  <a:pt x="1956" y="1490"/>
                  <a:pt x="1985" y="1461"/>
                </a:cubicBezTo>
                <a:cubicBezTo>
                  <a:pt x="2000" y="1416"/>
                  <a:pt x="1980" y="1472"/>
                  <a:pt x="2003" y="1425"/>
                </a:cubicBezTo>
                <a:cubicBezTo>
                  <a:pt x="2013" y="1405"/>
                  <a:pt x="2015" y="1380"/>
                  <a:pt x="2021" y="1359"/>
                </a:cubicBezTo>
                <a:cubicBezTo>
                  <a:pt x="2025" y="1343"/>
                  <a:pt x="2033" y="1311"/>
                  <a:pt x="2033" y="1311"/>
                </a:cubicBezTo>
                <a:cubicBezTo>
                  <a:pt x="2029" y="1237"/>
                  <a:pt x="2034" y="1154"/>
                  <a:pt x="1991" y="1089"/>
                </a:cubicBezTo>
                <a:cubicBezTo>
                  <a:pt x="1963" y="1018"/>
                  <a:pt x="1915" y="979"/>
                  <a:pt x="1884" y="936"/>
                </a:cubicBezTo>
                <a:cubicBezTo>
                  <a:pt x="1868" y="914"/>
                  <a:pt x="1824" y="850"/>
                  <a:pt x="1805" y="831"/>
                </a:cubicBezTo>
                <a:cubicBezTo>
                  <a:pt x="1787" y="754"/>
                  <a:pt x="1794" y="551"/>
                  <a:pt x="1773" y="472"/>
                </a:cubicBezTo>
                <a:cubicBezTo>
                  <a:pt x="1736" y="435"/>
                  <a:pt x="1725" y="390"/>
                  <a:pt x="1681" y="360"/>
                </a:cubicBezTo>
                <a:cubicBezTo>
                  <a:pt x="1597" y="325"/>
                  <a:pt x="1539" y="281"/>
                  <a:pt x="1469" y="264"/>
                </a:cubicBezTo>
                <a:cubicBezTo>
                  <a:pt x="1399" y="247"/>
                  <a:pt x="1368" y="292"/>
                  <a:pt x="1259" y="255"/>
                </a:cubicBezTo>
                <a:cubicBezTo>
                  <a:pt x="1225" y="207"/>
                  <a:pt x="862" y="76"/>
                  <a:pt x="813" y="39"/>
                </a:cubicBezTo>
                <a:cubicBezTo>
                  <a:pt x="662" y="0"/>
                  <a:pt x="517" y="21"/>
                  <a:pt x="354" y="21"/>
                </a:cubicBezTo>
                <a:cubicBezTo>
                  <a:pt x="319" y="24"/>
                  <a:pt x="222" y="27"/>
                  <a:pt x="141" y="96"/>
                </a:cubicBezTo>
                <a:close/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6629400" y="1981080"/>
            <a:ext cx="990720" cy="703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se states are really all in the NIfman Link Up stat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1" name=""/>
          <p:cNvCxnSpPr>
            <a:stCxn id="540" idx="1"/>
            <a:endCxn id="539" idx="0"/>
          </p:cNvCxnSpPr>
          <p:nvPr/>
        </p:nvCxnSpPr>
        <p:spPr>
          <a:xfrm flipH="1">
            <a:off x="5809680" y="2336400"/>
            <a:ext cx="819720" cy="71784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542" name=""/>
          <p:cNvSpPr/>
          <p:nvPr/>
        </p:nvSpPr>
        <p:spPr>
          <a:xfrm>
            <a:off x="4191120" y="335268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3" name=""/>
          <p:cNvCxnSpPr>
            <a:stCxn id="542" idx="0"/>
            <a:endCxn id="544" idx="1"/>
          </p:cNvCxnSpPr>
          <p:nvPr/>
        </p:nvCxnSpPr>
        <p:spPr>
          <a:xfrm flipH="1" flipV="1" rot="5400000">
            <a:off x="4171680" y="3104640"/>
            <a:ext cx="305280" cy="1911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44" name=""/>
          <p:cNvSpPr/>
          <p:nvPr/>
        </p:nvSpPr>
        <p:spPr>
          <a:xfrm>
            <a:off x="4419720" y="2895480"/>
            <a:ext cx="1218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ENo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5" name=""/>
          <p:cNvCxnSpPr>
            <a:stCxn id="544" idx="2"/>
            <a:endCxn id="542" idx="3"/>
          </p:cNvCxnSpPr>
          <p:nvPr/>
        </p:nvCxnSpPr>
        <p:spPr>
          <a:xfrm rot="5400000">
            <a:off x="4552200" y="2914200"/>
            <a:ext cx="191160" cy="7628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"/>
          <p:cNvSpPr/>
          <p:nvPr/>
        </p:nvSpPr>
        <p:spPr>
          <a:xfrm>
            <a:off x="2438280" y="83808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Sess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4724280" y="8380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56386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69343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274320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4875480" y="457200"/>
            <a:ext cx="44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G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1722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3886200" y="533520"/>
            <a:ext cx="0" cy="56386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4648320" y="533520"/>
            <a:ext cx="0" cy="49528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5562720" y="533520"/>
            <a:ext cx="0" cy="56386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274320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342900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4267080" y="10666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510552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624852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731520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3048120" y="1371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2744640" y="1219320"/>
            <a:ext cx="704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3429000" y="15238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3813120" y="1371600"/>
            <a:ext cx="1968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 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364176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6553080" y="1905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4648320" y="533520"/>
            <a:ext cx="0" cy="56386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426708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3429000" y="17524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3812040" y="1600200"/>
            <a:ext cx="1883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De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6248520" y="19810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5794560" y="1828800"/>
            <a:ext cx="2172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,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6248520" y="2438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5794560" y="2286000"/>
            <a:ext cx="2244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 completed(EConfigDaemonDeregisterAc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3429000" y="26668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3812760" y="2514600"/>
            <a:ext cx="20660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eregistra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 flipH="1">
            <a:off x="3429000" y="28954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3657600" y="2743200"/>
            <a:ext cx="457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3657600" y="28195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 flipH="1">
            <a:off x="3429000" y="33526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3429000" y="3200400"/>
            <a:ext cx="790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 flipH="1">
            <a:off x="3429000" y="35812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3276720" y="3429000"/>
            <a:ext cx="1218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LinkLayerClos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3429000" y="38098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4498200" y="3657600"/>
            <a:ext cx="609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0" name=""/>
          <p:cNvGrpSpPr/>
          <p:nvPr/>
        </p:nvGrpSpPr>
        <p:grpSpPr>
          <a:xfrm>
            <a:off x="6172200" y="3809880"/>
            <a:ext cx="1676520" cy="381240"/>
            <a:chOff x="6172200" y="3809880"/>
            <a:chExt cx="1676520" cy="381240"/>
          </a:xfrm>
        </p:grpSpPr>
        <p:cxnSp>
          <p:nvCxnSpPr>
            <p:cNvPr id="591" name=""/>
            <p:cNvCxnSpPr>
              <a:stCxn id="592" idx="3"/>
              <a:endCxn id="593" idx="3"/>
            </p:cNvCxnSpPr>
            <p:nvPr/>
          </p:nvCxnSpPr>
          <p:spPr>
            <a:xfrm>
              <a:off x="6248520" y="3885840"/>
              <a:ext cx="216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92" name=""/>
            <p:cNvSpPr/>
            <p:nvPr/>
          </p:nvSpPr>
          <p:spPr>
            <a:xfrm>
              <a:off x="6172200" y="3809880"/>
              <a:ext cx="76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6172200" y="3962520"/>
              <a:ext cx="76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6477120" y="388620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5" name=""/>
          <p:cNvSpPr/>
          <p:nvPr/>
        </p:nvSpPr>
        <p:spPr>
          <a:xfrm>
            <a:off x="624852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6555600" y="4191120"/>
            <a:ext cx="37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 flipH="1">
            <a:off x="3429000" y="45720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4038480" y="4419720"/>
            <a:ext cx="1600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Unload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3429000" y="48006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3809880" y="4648320"/>
            <a:ext cx="9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038480" y="47242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3429000" y="52578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3809880" y="5105520"/>
            <a:ext cx="9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 flipH="1">
            <a:off x="2742840" y="54864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2133720" y="5334120"/>
            <a:ext cx="1904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(KConnectionUninitializ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3200400" y="152388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3200400" y="2895480"/>
            <a:ext cx="235080" cy="167652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3200400" y="4800600"/>
            <a:ext cx="228600" cy="4572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1371600" y="182880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ing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0" name=""/>
          <p:cNvCxnSpPr>
            <a:endCxn id="609" idx="3"/>
          </p:cNvCxnSpPr>
          <p:nvPr/>
        </p:nvCxnSpPr>
        <p:spPr>
          <a:xfrm flipH="1" flipV="1">
            <a:off x="2285640" y="1925280"/>
            <a:ext cx="915120" cy="1324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611" name=""/>
          <p:cNvSpPr/>
          <p:nvPr/>
        </p:nvSpPr>
        <p:spPr>
          <a:xfrm>
            <a:off x="1447920" y="327672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ping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2" name=""/>
          <p:cNvCxnSpPr>
            <a:endCxn id="611" idx="3"/>
          </p:cNvCxnSpPr>
          <p:nvPr/>
        </p:nvCxnSpPr>
        <p:spPr>
          <a:xfrm flipH="1" flipV="1">
            <a:off x="2361960" y="3372840"/>
            <a:ext cx="838800" cy="3610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613" name=""/>
          <p:cNvSpPr/>
          <p:nvPr/>
        </p:nvSpPr>
        <p:spPr>
          <a:xfrm>
            <a:off x="1447920" y="464832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ing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4" name=""/>
          <p:cNvCxnSpPr>
            <a:endCxn id="613" idx="3"/>
          </p:cNvCxnSpPr>
          <p:nvPr/>
        </p:nvCxnSpPr>
        <p:spPr>
          <a:xfrm flipH="1" flipV="1">
            <a:off x="2361960" y="4744800"/>
            <a:ext cx="838800" cy="28440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3962520" y="22096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4800600" y="22096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Configura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6095880" y="22096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3962520" y="18288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5334120" y="182880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4724280" y="1905120"/>
            <a:ext cx="0" cy="3581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2667600" y="3886200"/>
            <a:ext cx="671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Fsm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3124080" y="22096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PppNcpI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2743200" y="18288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P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3886200" y="1905120"/>
            <a:ext cx="0" cy="3581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2362320" y="22096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PppFs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266688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3507480" y="4114800"/>
            <a:ext cx="662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2666880" y="40384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3429000" y="42670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4497840" y="4343400"/>
            <a:ext cx="662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4267080" y="44956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5410080" y="47242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5640840" y="4572000"/>
            <a:ext cx="662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342900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426708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541008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647712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1523880" y="3505320"/>
            <a:ext cx="118908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renegotiation complete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1600200" y="38098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6477120" y="48769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looks for agent advertisements, sends RRQ, etc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1523880" y="2514600"/>
            <a:ext cx="11430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n inter-PDSN handoff occur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4419720" y="3352680"/>
            <a:ext cx="838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4267080" y="35053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5562720" y="3581280"/>
            <a:ext cx="838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5410080" y="3733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6477120" y="3886200"/>
            <a:ext cx="11430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notified of start of potential handoff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3429000" y="32767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3124080" y="3048120"/>
            <a:ext cx="152424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NifIfNotifyType::ENo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2666880" y="30481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2667960" y="2895480"/>
            <a:ext cx="768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FsmLayerDown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1600200" y="28195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47242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60199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312408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52578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388620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4648320" y="533520"/>
            <a:ext cx="0" cy="46479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34290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4267080" y="106668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533412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64008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3048120" y="1371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2744640" y="1219320"/>
            <a:ext cx="704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3429000" y="15238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3432600" y="1371600"/>
            <a:ext cx="1946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364176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5638680" y="1905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464832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426708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3429000" y="17524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3431160" y="1600200"/>
            <a:ext cx="1883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De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5334120" y="19810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4880160" y="1828800"/>
            <a:ext cx="2172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,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5334120" y="3581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4879800" y="3429000"/>
            <a:ext cx="1875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(KConfigDaemonFinishedDormantMod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3279240" y="2514600"/>
            <a:ext cx="2215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eregistrationPreserv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0" name=""/>
          <p:cNvGrpSpPr/>
          <p:nvPr/>
        </p:nvGrpSpPr>
        <p:grpSpPr>
          <a:xfrm>
            <a:off x="3352680" y="2819520"/>
            <a:ext cx="1676520" cy="380520"/>
            <a:chOff x="3352680" y="2819520"/>
            <a:chExt cx="1676520" cy="380520"/>
          </a:xfrm>
        </p:grpSpPr>
        <p:cxnSp>
          <p:nvCxnSpPr>
            <p:cNvPr id="681" name=""/>
            <p:cNvCxnSpPr>
              <a:stCxn id="682" idx="3"/>
              <a:endCxn id="683" idx="3"/>
            </p:cNvCxnSpPr>
            <p:nvPr/>
          </p:nvCxnSpPr>
          <p:spPr>
            <a:xfrm>
              <a:off x="3429000" y="28954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82" name=""/>
            <p:cNvSpPr/>
            <p:nvPr/>
          </p:nvSpPr>
          <p:spPr>
            <a:xfrm>
              <a:off x="3352680" y="28195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3352680" y="29718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3657600" y="28954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ctivate Dormant Sta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5" name=""/>
          <p:cNvSpPr/>
          <p:nvPr/>
        </p:nvSpPr>
        <p:spPr>
          <a:xfrm>
            <a:off x="3200400" y="152388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2057400" y="1905120"/>
            <a:ext cx="68580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ing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7" name=""/>
          <p:cNvCxnSpPr>
            <a:endCxn id="686" idx="3"/>
          </p:cNvCxnSpPr>
          <p:nvPr/>
        </p:nvCxnSpPr>
        <p:spPr>
          <a:xfrm flipH="1" flipV="1">
            <a:off x="2742840" y="2047680"/>
            <a:ext cx="457920" cy="56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688" name=""/>
          <p:cNvSpPr/>
          <p:nvPr/>
        </p:nvSpPr>
        <p:spPr>
          <a:xfrm>
            <a:off x="3429000" y="26668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5638680" y="3048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3431160" y="3657600"/>
            <a:ext cx="1918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ormantMod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3429000" y="38098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2" name=""/>
          <p:cNvGrpSpPr/>
          <p:nvPr/>
        </p:nvGrpSpPr>
        <p:grpSpPr>
          <a:xfrm>
            <a:off x="3352680" y="3962520"/>
            <a:ext cx="1676520" cy="380520"/>
            <a:chOff x="3352680" y="3962520"/>
            <a:chExt cx="1676520" cy="380520"/>
          </a:xfrm>
        </p:grpSpPr>
        <p:cxnSp>
          <p:nvCxnSpPr>
            <p:cNvPr id="693" name=""/>
            <p:cNvCxnSpPr>
              <a:stCxn id="694" idx="3"/>
              <a:endCxn id="695" idx="3"/>
            </p:cNvCxnSpPr>
            <p:nvPr/>
          </p:nvCxnSpPr>
          <p:spPr>
            <a:xfrm>
              <a:off x="3429000" y="40384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94" name=""/>
            <p:cNvSpPr/>
            <p:nvPr/>
          </p:nvSpPr>
          <p:spPr>
            <a:xfrm>
              <a:off x="3352680" y="39625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3352680" y="41148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657600" y="40384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Remain in Link-Up/Reset Timer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7" name=""/>
          <p:cNvSpPr/>
          <p:nvPr/>
        </p:nvSpPr>
        <p:spPr>
          <a:xfrm>
            <a:off x="3200400" y="304812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3200400" y="4419720"/>
            <a:ext cx="235080" cy="76176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2057400" y="3581280"/>
            <a:ext cx="76212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ormant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(= Link U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0" name=""/>
          <p:cNvCxnSpPr>
            <a:endCxn id="699" idx="3"/>
          </p:cNvCxnSpPr>
          <p:nvPr/>
        </p:nvCxnSpPr>
        <p:spPr>
          <a:xfrm flipH="1">
            <a:off x="2819160" y="3657240"/>
            <a:ext cx="381600" cy="673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01" name=""/>
          <p:cNvSpPr/>
          <p:nvPr/>
        </p:nvSpPr>
        <p:spPr>
          <a:xfrm>
            <a:off x="2057400" y="4343400"/>
            <a:ext cx="53352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Up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2" name=""/>
          <p:cNvCxnSpPr>
            <a:endCxn id="701" idx="3"/>
          </p:cNvCxnSpPr>
          <p:nvPr/>
        </p:nvCxnSpPr>
        <p:spPr>
          <a:xfrm flipH="1" flipV="1">
            <a:off x="2590200" y="4485960"/>
            <a:ext cx="610200" cy="28440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03" name=""/>
          <p:cNvSpPr/>
          <p:nvPr/>
        </p:nvSpPr>
        <p:spPr>
          <a:xfrm>
            <a:off x="3200400" y="45720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5334120" y="2438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4880520" y="2286000"/>
            <a:ext cx="2410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 Completed(EConfigDaemonDeregisterActionPreserv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15:00:13Z</dcterms:created>
  <dc:creator>Bill Gordon</dc:creator>
  <dc:description/>
  <dc:language>en-US</dc:language>
  <cp:lastModifiedBy>EXTVictorM</cp:lastModifiedBy>
  <dcterms:modified xsi:type="dcterms:W3CDTF">2004-08-21T00:47:50Z</dcterms:modified>
  <cp:revision>137</cp:revision>
  <dc:subject/>
  <dc:title>Slide 1</dc:title>
</cp:coreProperties>
</file>