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923213" cy="2519363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3FB85-AE27-49E0-9990-8315AF98DE9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8BAE8-E84B-4C2A-8A5D-66F535D11E0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B184E-7783-454E-A8C8-E5B8C87B046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85075-080C-42BD-823C-0A68A168637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60962-4195-4E69-8F27-F0D46492FF7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C9DC5-72E8-40F1-B6A5-1E2AF5E31BF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8980E-BD42-4A54-9AD3-2E77C97A0E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DF27A-888F-44B4-8D1A-4768396FC41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9AD90-09E2-4A4E-A042-7A987DD227F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7951E-C05A-4A69-89E7-9E53A049049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BF4FF-AF36-4D4B-A259-B6E8E06199C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D7199-1792-47B9-8091-B300DF62F9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marL="119160" indent="-11916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1" marL="415800" indent="-12204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2" marL="714240" indent="-12060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3" marL="1066680" indent="-11592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4" marL="1366920" indent="-119160">
              <a:spcBef>
                <a:spcPts val="224"/>
              </a:spcBef>
              <a:spcAft>
                <a:spcPts val="224"/>
              </a:spcAft>
              <a:buClr>
                <a:srgbClr val="040477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5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6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7600" y="579240"/>
            <a:ext cx="5678640" cy="7966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1"/>
          </p:nvPr>
        </p:nvSpPr>
        <p:spPr>
          <a:xfrm>
            <a:off x="468360" y="2398680"/>
            <a:ext cx="3387600" cy="698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  <a:defRPr b="0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</a:pPr>
            <a:r>
              <a:rPr b="0" sz="5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71360" y="2306520"/>
            <a:ext cx="2433600" cy="1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6880" rIns="56880" tIns="28440" bIns="2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6523200" y="1089000"/>
            <a:ext cx="1398600" cy="273240"/>
            <a:chOff x="6523200" y="1089000"/>
            <a:chExt cx="1398600" cy="273240"/>
          </a:xfrm>
        </p:grpSpPr>
        <p:pic>
          <p:nvPicPr>
            <p:cNvPr id="42" name="" descr=""/>
            <p:cNvPicPr/>
            <p:nvPr/>
          </p:nvPicPr>
          <p:blipFill>
            <a:blip r:embed="rId2"/>
            <a:stretch/>
          </p:blipFill>
          <p:spPr>
            <a:xfrm>
              <a:off x="6747840" y="1190520"/>
              <a:ext cx="950400" cy="6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6523200" y="1089000"/>
              <a:ext cx="13986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172800" y="2397240"/>
            <a:ext cx="298440" cy="712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  <a:defRPr b="0" lang="en-GB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fld id="{D7B11CFD-AB76-4731-985E-96FBBECA659B}" type="slidenum">
              <a:rPr b="0" lang="en-GB" sz="5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5280" y="235080"/>
            <a:ext cx="6408720" cy="20541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0" anchor="t" anchorCtr="1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Carbide.c++ 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6080" y="798480"/>
            <a:ext cx="152208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Buil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3036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Vie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1644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Analy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440" y="1374840"/>
            <a:ext cx="813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dd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90840" y="1760400"/>
            <a:ext cx="989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mpile 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71560" y="1374840"/>
            <a:ext cx="1050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ctivate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0" y="1760400"/>
            <a:ext cx="1237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nnect to de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28200" y="1349280"/>
            <a:ext cx="900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reate ru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38920" y="1760400"/>
            <a:ext cx="1077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nalyse and fi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5" idx="3"/>
            <a:endCxn id="86" idx="1"/>
          </p:cNvCxnSpPr>
          <p:nvPr/>
        </p:nvCxnSpPr>
        <p:spPr>
          <a:xfrm>
            <a:off x="149940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6" idx="3"/>
            <a:endCxn id="87" idx="1"/>
          </p:cNvCxnSpPr>
          <p:nvPr/>
        </p:nvCxnSpPr>
        <p:spPr>
          <a:xfrm flipV="1">
            <a:off x="258012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7" idx="3"/>
            <a:endCxn id="88" idx="1"/>
          </p:cNvCxnSpPr>
          <p:nvPr/>
        </p:nvCxnSpPr>
        <p:spPr>
          <a:xfrm>
            <a:off x="3721680" y="1495440"/>
            <a:ext cx="8748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88" idx="3"/>
            <a:endCxn id="89" idx="1"/>
          </p:cNvCxnSpPr>
          <p:nvPr/>
        </p:nvCxnSpPr>
        <p:spPr>
          <a:xfrm flipV="1">
            <a:off x="5046480" y="1469880"/>
            <a:ext cx="82080" cy="41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89" idx="2"/>
            <a:endCxn id="90" idx="0"/>
          </p:cNvCxnSpPr>
          <p:nvPr/>
        </p:nvCxnSpPr>
        <p:spPr>
          <a:xfrm flipH="1">
            <a:off x="5577480" y="1590480"/>
            <a:ext cx="1440" cy="17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7248600" y="852480"/>
            <a:ext cx="431640" cy="81756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817560"/>
              <a:gd name="textAreaBottom" fmla="*/ 796680 h 817560"/>
            </a:gdLst>
            <a:ahLst/>
            <a:rect l="textAreaLeft" t="textAreaTop" r="textAreaRight" b="textAreaBottom"/>
            <a:pathLst>
              <a:path w="21600" h="40896">
                <a:moveTo>
                  <a:pt x="3600" y="0"/>
                </a:moveTo>
                <a:arcTo wR="3600" hR="3600" stAng="16200000" swAng="-5400000"/>
                <a:lnTo>
                  <a:pt x="0" y="37296"/>
                </a:lnTo>
                <a:arcTo wR="3600" hR="3600" stAng="10800000" swAng="-5400000"/>
                <a:lnTo>
                  <a:pt x="18000" y="40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4a51c"/>
          </a:solidFill>
          <a:ln w="936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21520" y="378000"/>
            <a:ext cx="68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81" idx="3"/>
            <a:endCxn id="96" idx="1"/>
          </p:cNvCxnSpPr>
          <p:nvPr/>
        </p:nvCxnSpPr>
        <p:spPr>
          <a:xfrm flipV="1">
            <a:off x="6534000" y="1261080"/>
            <a:ext cx="714960" cy="1440"/>
          </a:xfrm>
          <a:prstGeom prst="straightConnector1">
            <a:avLst/>
          </a:prstGeom>
          <a:ln w="19080">
            <a:solidFill>
              <a:srgbClr val="44a51c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6679440" y="1012680"/>
            <a:ext cx="42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U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2:55:21Z</dcterms:created>
  <dc:creator>Matti Pulkkinen</dc:creator>
  <dc:description/>
  <cp:keywords/>
  <dc:language>en-US</dc:language>
  <cp:lastModifiedBy>Matti Pulkkinen</cp:lastModifiedBy>
  <cp:lastPrinted>1998-09-04T08:04:32Z</cp:lastPrinted>
  <dcterms:modified xsi:type="dcterms:W3CDTF">2009-11-04T13:16:47Z</dcterms:modified>
  <cp:revision>4</cp:revision>
  <dc:subject/>
  <dc:title>Slide 1</dc:title>
</cp:coreProperties>
</file>