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923213" cy="2519363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46E6F-7682-416F-9853-F876B333021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0590F-B51B-4390-9D7D-D4F8A67A6BF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7D6F5-2B65-44F2-A3FB-33467DA72A5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C469A-195C-45E3-B7C2-8B03DBA2551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E56C6-8730-4763-A649-C4E95162333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0E6BE-9CF2-43BC-80D7-659915F25D9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1DECA-508F-43C3-AAC9-9FB4F3647E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FCCA7-904A-4F91-B619-4D32732E1FC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64EDC-1A5B-4351-ADDC-8B2158F5325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66AEB-57F9-4DF0-9A38-C91688410D6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1058D-EC4F-4F1D-B297-C33432CBA29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509FF-F8AF-4CE6-A66F-5313DBDDD9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marL="119160" indent="-11916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1" marL="415800" indent="-12204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2" marL="714240" indent="-12060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3" marL="1066680" indent="-11592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4" marL="1366920" indent="-119160">
              <a:spcBef>
                <a:spcPts val="224"/>
              </a:spcBef>
              <a:spcAft>
                <a:spcPts val="224"/>
              </a:spcAft>
              <a:buClr>
                <a:srgbClr val="040477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5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6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7600" y="579240"/>
            <a:ext cx="5678640" cy="7966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1"/>
          </p:nvPr>
        </p:nvSpPr>
        <p:spPr>
          <a:xfrm>
            <a:off x="468360" y="2398680"/>
            <a:ext cx="3387600" cy="698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  <a:defRPr b="0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</a:pPr>
            <a:r>
              <a:rPr b="0" sz="5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71360" y="2306520"/>
            <a:ext cx="2433600" cy="1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6880" rIns="56880" tIns="28440" bIns="2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6523200" y="1089000"/>
            <a:ext cx="1398600" cy="273240"/>
            <a:chOff x="6523200" y="1089000"/>
            <a:chExt cx="1398600" cy="273240"/>
          </a:xfrm>
        </p:grpSpPr>
        <p:pic>
          <p:nvPicPr>
            <p:cNvPr id="42" name="" descr=""/>
            <p:cNvPicPr/>
            <p:nvPr/>
          </p:nvPicPr>
          <p:blipFill>
            <a:blip r:embed="rId2"/>
            <a:stretch/>
          </p:blipFill>
          <p:spPr>
            <a:xfrm>
              <a:off x="6747840" y="1190520"/>
              <a:ext cx="950400" cy="6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6523200" y="1089000"/>
              <a:ext cx="13986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172800" y="2397240"/>
            <a:ext cx="298440" cy="712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  <a:defRPr b="0" lang="en-GB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fld id="{7C243135-2F3F-46CA-BD64-C09D8344B1CF}" type="slidenum">
              <a:rPr b="0" lang="en-GB" sz="5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5280" y="235080"/>
            <a:ext cx="6408720" cy="20541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0" anchor="t" anchorCtr="1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Carbide.c++ 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6080" y="798480"/>
            <a:ext cx="152208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Buil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3036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Vie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1644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Analy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440" y="1374840"/>
            <a:ext cx="813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dd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90840" y="1760400"/>
            <a:ext cx="989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mpile 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71560" y="1374840"/>
            <a:ext cx="1050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ctivate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0" y="1760400"/>
            <a:ext cx="1237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nnect to de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28200" y="1349280"/>
            <a:ext cx="900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reate ru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38920" y="1760400"/>
            <a:ext cx="1077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nalyse and fi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5" idx="3"/>
            <a:endCxn id="86" idx="1"/>
          </p:cNvCxnSpPr>
          <p:nvPr/>
        </p:nvCxnSpPr>
        <p:spPr>
          <a:xfrm>
            <a:off x="149940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6" idx="3"/>
            <a:endCxn id="87" idx="1"/>
          </p:cNvCxnSpPr>
          <p:nvPr/>
        </p:nvCxnSpPr>
        <p:spPr>
          <a:xfrm flipV="1">
            <a:off x="258012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7" idx="3"/>
            <a:endCxn id="88" idx="1"/>
          </p:cNvCxnSpPr>
          <p:nvPr/>
        </p:nvCxnSpPr>
        <p:spPr>
          <a:xfrm>
            <a:off x="3721680" y="1495440"/>
            <a:ext cx="8748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88" idx="3"/>
            <a:endCxn id="89" idx="1"/>
          </p:cNvCxnSpPr>
          <p:nvPr/>
        </p:nvCxnSpPr>
        <p:spPr>
          <a:xfrm flipV="1">
            <a:off x="5046480" y="1469880"/>
            <a:ext cx="82080" cy="41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89" idx="2"/>
            <a:endCxn id="90" idx="0"/>
          </p:cNvCxnSpPr>
          <p:nvPr/>
        </p:nvCxnSpPr>
        <p:spPr>
          <a:xfrm flipH="1">
            <a:off x="5577480" y="1590480"/>
            <a:ext cx="1440" cy="17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7248600" y="852480"/>
            <a:ext cx="431640" cy="81756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817560"/>
              <a:gd name="textAreaBottom" fmla="*/ 796680 h 817560"/>
            </a:gdLst>
            <a:ahLst/>
            <a:rect l="textAreaLeft" t="textAreaTop" r="textAreaRight" b="textAreaBottom"/>
            <a:pathLst>
              <a:path w="21600" h="40896">
                <a:moveTo>
                  <a:pt x="3600" y="0"/>
                </a:moveTo>
                <a:arcTo wR="3600" hR="3600" stAng="16200000" swAng="-5400000"/>
                <a:lnTo>
                  <a:pt x="0" y="37296"/>
                </a:lnTo>
                <a:arcTo wR="3600" hR="3600" stAng="10800000" swAng="-5400000"/>
                <a:lnTo>
                  <a:pt x="18000" y="40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4a51c"/>
          </a:solidFill>
          <a:ln w="936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21520" y="378000"/>
            <a:ext cx="68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81" idx="3"/>
            <a:endCxn id="96" idx="1"/>
          </p:cNvCxnSpPr>
          <p:nvPr/>
        </p:nvCxnSpPr>
        <p:spPr>
          <a:xfrm flipV="1">
            <a:off x="6534000" y="1261080"/>
            <a:ext cx="714960" cy="1440"/>
          </a:xfrm>
          <a:prstGeom prst="straightConnector1">
            <a:avLst/>
          </a:prstGeom>
          <a:ln w="19080">
            <a:solidFill>
              <a:srgbClr val="44a51c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6679440" y="1012680"/>
            <a:ext cx="42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U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2:55:21Z</dcterms:created>
  <dc:creator>Matti Pulkkinen</dc:creator>
  <dc:description/>
  <cp:keywords/>
  <dc:language>en-US</dc:language>
  <cp:lastModifiedBy>Matti Pulkkinen</cp:lastModifiedBy>
  <cp:lastPrinted>1998-09-04T08:04:32Z</cp:lastPrinted>
  <dcterms:modified xsi:type="dcterms:W3CDTF">2009-11-04T13:16:47Z</dcterms:modified>
  <cp:revision>4</cp:revision>
  <dc:subject/>
  <dc:title>Slide 1</dc:title>
</cp:coreProperties>
</file>