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923213" cy="2519363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7576E-963B-4617-9E70-BD31ACEC3A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19782-65C3-453B-A6D2-E5E2836498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F433F-BDC4-4CA9-A6A9-FC4DD5E9D5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985C1-C096-426A-8D28-B3CD8F822E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33AB1-88D7-4ED6-85AF-E2B101772C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CDA06-D6F9-452B-959F-852E55378B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4E1F4-15EE-4C9B-B29D-3B70C629C9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DF507-6D6A-44AB-8FFC-542FFCF01F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15A5F-C4F1-4359-A428-37A4FA6BB7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8CB0D-EE25-456F-9C22-03EDCA4EA6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6D050-D0CC-4FB4-9BEA-7895534B0C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FAE3B-CCB4-496D-9AA8-2F6C853A1A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marL="119160" indent="-11916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415800" indent="-12204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714240" indent="-12060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066680" indent="-11592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4" marL="1366920" indent="-119160">
              <a:spcBef>
                <a:spcPts val="224"/>
              </a:spcBef>
              <a:spcAft>
                <a:spcPts val="224"/>
              </a:spcAft>
              <a:buClr>
                <a:srgbClr val="040477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5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6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" y="579240"/>
            <a:ext cx="5678640" cy="7966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468360" y="2398680"/>
            <a:ext cx="3387600" cy="698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  <a:defRPr b="0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0" sz="5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71360" y="2306520"/>
            <a:ext cx="24336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523200" y="1089000"/>
            <a:ext cx="1398600" cy="273240"/>
            <a:chOff x="6523200" y="1089000"/>
            <a:chExt cx="1398600" cy="2732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6747840" y="1190520"/>
              <a:ext cx="95040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23200" y="1089000"/>
              <a:ext cx="1398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72800" y="2397240"/>
            <a:ext cx="298440" cy="712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  <a:defRPr b="0" lang="en-GB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fld id="{C40F09C1-A79B-453D-9F1B-47122F2D3A8D}" type="slidenum">
              <a:rPr b="0" lang="en-GB" sz="5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280" y="235080"/>
            <a:ext cx="6408720" cy="2054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 anchorCtr="1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Carbide.c++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080" y="798480"/>
            <a:ext cx="152208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036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Analy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440" y="1374840"/>
            <a:ext cx="813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dd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0840" y="17604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mpil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1560" y="1374840"/>
            <a:ext cx="1050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ctivate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0" y="1760400"/>
            <a:ext cx="123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nnect to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28200" y="134928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reate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8920" y="1760400"/>
            <a:ext cx="10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nalyse and f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5" idx="3"/>
            <a:endCxn id="86" idx="1"/>
          </p:cNvCxnSpPr>
          <p:nvPr/>
        </p:nvCxnSpPr>
        <p:spPr>
          <a:xfrm>
            <a:off x="149940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 flipV="1">
            <a:off x="258012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8" idx="1"/>
          </p:cNvCxnSpPr>
          <p:nvPr/>
        </p:nvCxnSpPr>
        <p:spPr>
          <a:xfrm>
            <a:off x="3721680" y="1495440"/>
            <a:ext cx="8748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8" idx="3"/>
            <a:endCxn id="89" idx="1"/>
          </p:cNvCxnSpPr>
          <p:nvPr/>
        </p:nvCxnSpPr>
        <p:spPr>
          <a:xfrm flipV="1">
            <a:off x="5046480" y="1469880"/>
            <a:ext cx="82080" cy="41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90" idx="0"/>
          </p:cNvCxnSpPr>
          <p:nvPr/>
        </p:nvCxnSpPr>
        <p:spPr>
          <a:xfrm flipH="1">
            <a:off x="5577480" y="1590480"/>
            <a:ext cx="144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248600" y="852480"/>
            <a:ext cx="431640" cy="817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17560"/>
              <a:gd name="textAreaBottom" fmla="*/ 796680 h 817560"/>
            </a:gdLst>
            <a:ahLst/>
            <a:rect l="textAreaLeft" t="textAreaTop" r="textAreaRight" b="textAreaBottom"/>
            <a:pathLst>
              <a:path w="21600" h="40896">
                <a:moveTo>
                  <a:pt x="3600" y="0"/>
                </a:moveTo>
                <a:arcTo wR="3600" hR="3600" stAng="16200000" swAng="-5400000"/>
                <a:lnTo>
                  <a:pt x="0" y="37296"/>
                </a:lnTo>
                <a:arcTo wR="3600" hR="3600" stAng="10800000" swAng="-5400000"/>
                <a:lnTo>
                  <a:pt x="18000" y="40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4a51c"/>
          </a:solidFill>
          <a:ln w="936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37800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96" idx="1"/>
          </p:cNvCxnSpPr>
          <p:nvPr/>
        </p:nvCxnSpPr>
        <p:spPr>
          <a:xfrm flipV="1">
            <a:off x="6534000" y="1261080"/>
            <a:ext cx="714960" cy="1440"/>
          </a:xfrm>
          <a:prstGeom prst="straightConnector1">
            <a:avLst/>
          </a:prstGeom>
          <a:ln w="19080">
            <a:solidFill>
              <a:srgbClr val="44a51c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679440" y="1012680"/>
            <a:ext cx="42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1Z</dcterms:created>
  <dc:creator>Matti Pulkkinen</dc:creator>
  <dc:description/>
  <cp:keywords/>
  <dc:language>en-US</dc:language>
  <cp:lastModifiedBy>Matti Pulkkinen</cp:lastModifiedBy>
  <cp:lastPrinted>1998-09-04T08:04:32Z</cp:lastPrinted>
  <dcterms:modified xsi:type="dcterms:W3CDTF">2009-11-04T13:16:47Z</dcterms:modified>
  <cp:revision>4</cp:revision>
  <dc:subject/>
  <dc:title>Slide 1</dc:title>
</cp:coreProperties>
</file>