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7923213" cy="2519363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7CBFB-6933-490E-B3C5-D6438F58FD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F03E4-2B86-4D6F-BF89-36775AA640F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5BCA62-5099-40A9-8AC3-D2BBFB3C369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9DD1F-423D-46DF-B3E0-6F83C7209D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0CEEC-F4DA-4575-AEDE-7C5F536C4A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E9654-E115-4580-B7C9-67A2DC91627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061F5E-A29F-4D75-AA26-47329C4B93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12"/>
              </a:spcBef>
              <a:spcAft>
                <a:spcPts val="312"/>
              </a:spcAft>
              <a:buNone/>
              <a:tabLst>
                <a:tab algn="l" pos="0"/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96F57-D90A-42C0-8066-7C2496E5AE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637EB-DFDD-4BF7-A227-D35B7946D4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50EE0-A91C-44A4-902E-23A9417A0F1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B04B-2880-4436-935D-8A1B328754C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273420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313240" y="41436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5516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273420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313240" y="1369800"/>
            <a:ext cx="245592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1D5ECE-9BFB-4527-9B61-7F666FB4ED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45800" y="-360"/>
            <a:ext cx="7629480" cy="19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700" spc="-1" strike="noStrike">
              <a:solidFill>
                <a:srgbClr val="ffffff"/>
              </a:solidFill>
              <a:latin typeface="Nokia Large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064040" y="136980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516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64040" y="414360"/>
            <a:ext cx="372240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55160" y="1369800"/>
            <a:ext cx="7628040" cy="87228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indent="0">
              <a:spcBef>
                <a:spcPts val="224"/>
              </a:spcBef>
              <a:spcAft>
                <a:spcPts val="224"/>
              </a:spcAft>
              <a:buNone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5800" y="-360"/>
            <a:ext cx="7629480" cy="41436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20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5160" y="414360"/>
            <a:ext cx="7628040" cy="182880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rmAutofit/>
          </a:bodyPr>
          <a:p>
            <a:pPr marL="119160" indent="-11916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1" marL="415800" indent="-12204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2" marL="714240" indent="-12060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3" marL="1066680" indent="-115920">
              <a:spcBef>
                <a:spcPts val="224"/>
              </a:spcBef>
              <a:spcAft>
                <a:spcPts val="224"/>
              </a:spcAft>
              <a:buClr>
                <a:srgbClr val="0033cc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4" marL="1366920" indent="-119160">
              <a:spcBef>
                <a:spcPts val="224"/>
              </a:spcBef>
              <a:spcAft>
                <a:spcPts val="224"/>
              </a:spcAft>
              <a:buClr>
                <a:srgbClr val="040477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5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  <a:p>
            <a:pPr lvl="6" marL="1366920" indent="-119160">
              <a:spcBef>
                <a:spcPts val="224"/>
              </a:spcBef>
              <a:spcAft>
                <a:spcPts val="224"/>
              </a:spcAft>
              <a:buClr>
                <a:srgbClr val="000000"/>
              </a:buClr>
              <a:buFont typeface="Nokia Sans Wide"/>
              <a:buChar char="•"/>
              <a:tabLst>
                <a:tab algn="l" pos="474840"/>
                <a:tab algn="l" pos="949320"/>
                <a:tab algn="l" pos="1424160"/>
                <a:tab algn="l" pos="1898640"/>
                <a:tab algn="l" pos="2373480"/>
                <a:tab algn="l" pos="2847960"/>
                <a:tab algn="l" pos="3322800"/>
                <a:tab algn="l" pos="3797280"/>
                <a:tab algn="l" pos="4272120"/>
                <a:tab algn="l" pos="4746600"/>
                <a:tab algn="l" pos="5221440"/>
                <a:tab algn="l" pos="5695920"/>
                <a:tab algn="l" pos="6170760"/>
                <a:tab algn="l" pos="6645240"/>
                <a:tab algn="l" pos="7120080"/>
                <a:tab algn="l" pos="7594560"/>
                <a:tab algn="l" pos="8069400"/>
                <a:tab algn="l" pos="8543880"/>
                <a:tab algn="l" pos="9018720"/>
                <a:tab algn="l" pos="9493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47600" y="579240"/>
            <a:ext cx="5678640" cy="7966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ctr">
            <a:noAutofit/>
          </a:bodyPr>
          <a:p>
            <a:pPr indent="0"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Nokia Large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Nokia Larg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ftr" idx="1"/>
          </p:nvPr>
        </p:nvSpPr>
        <p:spPr>
          <a:xfrm>
            <a:off x="468360" y="2398680"/>
            <a:ext cx="3387600" cy="69840"/>
          </a:xfrm>
          <a:prstGeom prst="rect">
            <a:avLst/>
          </a:prstGeom>
          <a:noFill/>
          <a:ln w="0">
            <a:noFill/>
          </a:ln>
        </p:spPr>
        <p:txBody>
          <a:bodyPr lIns="56520" rIns="56520" tIns="27720" bIns="27720" anchor="t">
            <a:noAutofit/>
          </a:bodyPr>
          <a:lstStyle>
            <a:lvl1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  <a:defRPr b="0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90000"/>
              </a:lnSpc>
              <a:buNone/>
              <a:tabLst>
                <a:tab algn="l" pos="0"/>
                <a:tab algn="l" pos="250920"/>
                <a:tab algn="l" pos="501480"/>
                <a:tab algn="l" pos="752400"/>
                <a:tab algn="l" pos="1003320"/>
                <a:tab algn="l" pos="1254240"/>
                <a:tab algn="l" pos="1504800"/>
                <a:tab algn="l" pos="1755720"/>
                <a:tab algn="l" pos="2006640"/>
                <a:tab algn="l" pos="2257560"/>
                <a:tab algn="l" pos="2508120"/>
                <a:tab algn="l" pos="2759040"/>
                <a:tab algn="l" pos="3009960"/>
                <a:tab algn="l" pos="3260880"/>
                <a:tab algn="l" pos="3511440"/>
                <a:tab algn="l" pos="3762360"/>
                <a:tab algn="l" pos="4013280"/>
                <a:tab algn="l" pos="4264200"/>
                <a:tab algn="l" pos="4514760"/>
                <a:tab algn="l" pos="4765680"/>
                <a:tab algn="l" pos="5016600"/>
              </a:tabLst>
            </a:pPr>
            <a:r>
              <a:rPr b="0" sz="500" spc="-1" strike="noStrike">
                <a:solidFill>
                  <a:srgbClr val="ffffff"/>
                </a:solidFill>
                <a:latin typeface="Nokia Sans Wide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171360" y="2306520"/>
            <a:ext cx="2433600" cy="16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6880" rIns="56880" tIns="28440" bIns="28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6523200" y="1089000"/>
            <a:ext cx="1398600" cy="273240"/>
            <a:chOff x="6523200" y="1089000"/>
            <a:chExt cx="1398600" cy="273240"/>
          </a:xfrm>
        </p:grpSpPr>
        <p:pic>
          <p:nvPicPr>
            <p:cNvPr id="42" name="" descr=""/>
            <p:cNvPicPr/>
            <p:nvPr/>
          </p:nvPicPr>
          <p:blipFill>
            <a:blip r:embed="rId2"/>
            <a:stretch/>
          </p:blipFill>
          <p:spPr>
            <a:xfrm>
              <a:off x="6747840" y="1190520"/>
              <a:ext cx="950400" cy="69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6523200" y="1089000"/>
              <a:ext cx="1398600" cy="27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172800" y="2397240"/>
            <a:ext cx="298440" cy="71280"/>
          </a:xfrm>
          <a:prstGeom prst="rect">
            <a:avLst/>
          </a:prstGeom>
          <a:noFill/>
          <a:ln w="0">
            <a:noFill/>
          </a:ln>
        </p:spPr>
        <p:txBody>
          <a:bodyPr lIns="56880" rIns="56880" tIns="28440" bIns="284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  <a:defRPr b="0" lang="en-GB" sz="5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69880"/>
                <a:tab algn="l" pos="1139760"/>
                <a:tab algn="l" pos="1709640"/>
                <a:tab algn="l" pos="2279520"/>
                <a:tab algn="l" pos="2849400"/>
                <a:tab algn="l" pos="3419640"/>
                <a:tab algn="l" pos="3989520"/>
                <a:tab algn="l" pos="4559400"/>
                <a:tab algn="l" pos="5129280"/>
                <a:tab algn="l" pos="5699160"/>
                <a:tab algn="l" pos="6269040"/>
                <a:tab algn="l" pos="6838920"/>
                <a:tab algn="l" pos="7408800"/>
                <a:tab algn="l" pos="7978680"/>
                <a:tab algn="l" pos="8548560"/>
                <a:tab algn="l" pos="9118440"/>
                <a:tab algn="l" pos="9688680"/>
                <a:tab algn="l" pos="10258560"/>
                <a:tab algn="l" pos="10828440"/>
              </a:tabLst>
            </a:pPr>
            <a:fld id="{89FFC909-2458-413C-8D7C-87E00A143FD8}" type="slidenum">
              <a:rPr b="0" lang="en-GB" sz="5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25280" y="235080"/>
            <a:ext cx="6408720" cy="205416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0" bIns="0" anchor="t" anchorCtr="1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Carbide.c++ 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16080" y="798480"/>
            <a:ext cx="152208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Build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43036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View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16440" y="798480"/>
            <a:ext cx="1522440" cy="40320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Nokia Sans Wide"/>
              </a:rPr>
              <a:t>TraceAnalys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440" y="1374840"/>
            <a:ext cx="813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dd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90840" y="1760400"/>
            <a:ext cx="9892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mpile c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71560" y="1374840"/>
            <a:ext cx="1050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ctivate tra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08800" y="1760400"/>
            <a:ext cx="1237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onnect to dev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28200" y="1349280"/>
            <a:ext cx="9007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Create ru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38920" y="1760400"/>
            <a:ext cx="1077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Analyse and fi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" name=""/>
          <p:cNvCxnSpPr>
            <a:stCxn id="85" idx="3"/>
            <a:endCxn id="86" idx="1"/>
          </p:cNvCxnSpPr>
          <p:nvPr/>
        </p:nvCxnSpPr>
        <p:spPr>
          <a:xfrm>
            <a:off x="149940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6" idx="3"/>
            <a:endCxn id="87" idx="1"/>
          </p:cNvCxnSpPr>
          <p:nvPr/>
        </p:nvCxnSpPr>
        <p:spPr>
          <a:xfrm flipV="1">
            <a:off x="2580120" y="1495440"/>
            <a:ext cx="9180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7" idx="3"/>
            <a:endCxn id="88" idx="1"/>
          </p:cNvCxnSpPr>
          <p:nvPr/>
        </p:nvCxnSpPr>
        <p:spPr>
          <a:xfrm>
            <a:off x="3721680" y="1495440"/>
            <a:ext cx="87480" cy="385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8" idx="3"/>
            <a:endCxn id="89" idx="1"/>
          </p:cNvCxnSpPr>
          <p:nvPr/>
        </p:nvCxnSpPr>
        <p:spPr>
          <a:xfrm flipV="1">
            <a:off x="5046480" y="1469880"/>
            <a:ext cx="82080" cy="411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9" idx="2"/>
            <a:endCxn id="90" idx="0"/>
          </p:cNvCxnSpPr>
          <p:nvPr/>
        </p:nvCxnSpPr>
        <p:spPr>
          <a:xfrm flipH="1">
            <a:off x="5577480" y="1590480"/>
            <a:ext cx="1440" cy="170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" name=""/>
          <p:cNvSpPr/>
          <p:nvPr/>
        </p:nvSpPr>
        <p:spPr>
          <a:xfrm>
            <a:off x="7248600" y="852480"/>
            <a:ext cx="431640" cy="817560"/>
          </a:xfrm>
          <a:custGeom>
            <a:avLst/>
            <a:gdLst>
              <a:gd name="textAreaLeft" fmla="*/ 20880 w 431640"/>
              <a:gd name="textAreaRight" fmla="*/ 410760 w 431640"/>
              <a:gd name="textAreaTop" fmla="*/ 20880 h 817560"/>
              <a:gd name="textAreaBottom" fmla="*/ 796680 h 817560"/>
            </a:gdLst>
            <a:ahLst/>
            <a:rect l="textAreaLeft" t="textAreaTop" r="textAreaRight" b="textAreaBottom"/>
            <a:pathLst>
              <a:path w="21600" h="40896">
                <a:moveTo>
                  <a:pt x="3600" y="0"/>
                </a:moveTo>
                <a:arcTo wR="3600" hR="3600" stAng="16200000" swAng="-5400000"/>
                <a:lnTo>
                  <a:pt x="0" y="37296"/>
                </a:lnTo>
                <a:arcTo wR="3600" hR="3600" stAng="10800000" swAng="-5400000"/>
                <a:lnTo>
                  <a:pt x="18000" y="40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4a51c"/>
          </a:solidFill>
          <a:ln w="9360">
            <a:solidFill>
              <a:srgbClr val="44a51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1520" y="378000"/>
            <a:ext cx="68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24"/>
              </a:spcBef>
              <a:spcAft>
                <a:spcPts val="22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Nokia Sans Wide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81" idx="3"/>
            <a:endCxn id="96" idx="1"/>
          </p:cNvCxnSpPr>
          <p:nvPr/>
        </p:nvCxnSpPr>
        <p:spPr>
          <a:xfrm flipV="1">
            <a:off x="6534000" y="1261080"/>
            <a:ext cx="714960" cy="1440"/>
          </a:xfrm>
          <a:prstGeom prst="straightConnector1">
            <a:avLst/>
          </a:prstGeom>
          <a:ln w="19080">
            <a:solidFill>
              <a:srgbClr val="44a51c"/>
            </a:solidFill>
            <a:miter/>
          </a:ln>
        </p:spPr>
      </p:cxnSp>
      <p:sp>
        <p:nvSpPr>
          <p:cNvPr id="99" name=""/>
          <p:cNvSpPr/>
          <p:nvPr/>
        </p:nvSpPr>
        <p:spPr>
          <a:xfrm>
            <a:off x="6679440" y="1012680"/>
            <a:ext cx="426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87"/>
              </a:spcBef>
              <a:spcAft>
                <a:spcPts val="18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Nokia Sans Wide"/>
              </a:rPr>
              <a:t>US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4T12:55:21Z</dcterms:created>
  <dc:creator>Matti Pulkkinen</dc:creator>
  <dc:description/>
  <cp:keywords/>
  <dc:language>en-US</dc:language>
  <cp:lastModifiedBy>Matti Pulkkinen</cp:lastModifiedBy>
  <cp:lastPrinted>1998-09-04T08:04:32Z</cp:lastPrinted>
  <dcterms:modified xsi:type="dcterms:W3CDTF">2009-11-04T13:16:47Z</dcterms:modified>
  <cp:revision>4</cp:revision>
  <dc:subject/>
  <dc:title>Slide 1</dc:title>
</cp:coreProperties>
</file>