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577C-25EC-400E-885F-A6E326D17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DC86-E2C7-41E0-A16E-36FB8A8F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E1A2-F415-43B1-A0AA-EF37D9E8E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5B3C-A1DB-4B75-A6E5-89492C02C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188D-C737-4B62-88B2-7B2E36AB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C18C-0B9B-4221-94FF-625260B2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DD0E-935E-4550-8F9D-37AD8A12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738F-B71D-4499-858B-CEDA79AE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E7BC-8F3C-455B-9CBB-814692F1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EDE3-1C1B-4F46-9CF1-1A269172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2936-454B-43FA-82E8-099E7CA0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2FC9-D33E-4A2F-A91F-A73E07FA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DE21-5DB1-4564-8DA1-5322A81D8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43360" y="2209680"/>
            <a:ext cx="2114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A combo box is used to select the currently used data sour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43360" y="2819520"/>
            <a:ext cx="1962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The content of the data source configuration UI varies dynamically based on the currently selected data sour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04920" y="1828800"/>
            <a:ext cx="4200480" cy="3952800"/>
            <a:chOff x="304920" y="1828800"/>
            <a:chExt cx="4200480" cy="39528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304920" y="1828800"/>
              <a:ext cx="4200480" cy="39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533520" y="2819160"/>
              <a:ext cx="3810240" cy="1752840"/>
            </a:xfrm>
            <a:prstGeom prst="rect">
              <a:avLst/>
            </a:prstGeom>
            <a:solidFill>
              <a:srgbClr val="e6e7e1">
                <a:alpha val="66000"/>
              </a:srgbClr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1240" y="2133360"/>
              <a:ext cx="4038480" cy="457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4419720" y="23623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19240" y="723960"/>
            <a:ext cx="3305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19240" y="714240"/>
            <a:ext cx="330552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426708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uhiainen Marjaana</cp:lastModifiedBy>
  <dcterms:modified xsi:type="dcterms:W3CDTF">2007-09-19T10:01:0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