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A64-B87F-4613-A500-4110A6FE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EFA-8B10-4469-95D6-3D122F5C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F7A1-CD31-410D-A927-D94E92FF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06B7-EF32-4B2A-9359-7B71FB1C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3F2A-E46C-4079-A0CC-69DBF2A6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347-BBEB-4DD3-9871-D0A55505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18DD-E88C-496D-9554-EDFB16ED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A1F-AF11-4492-A857-66BF9C6C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2086-3D86-4E8F-AE85-EF401ABD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B071-B93A-4D2A-B024-55353062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9F8-F012-464E-A8E5-D6E59F69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83A7-39C2-4D10-9468-81AC888B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4809-35A9-466F-A4F0-BE68F962B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43360" y="2209680"/>
            <a:ext cx="21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 combo box is used to select the currently us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3360" y="2819520"/>
            <a:ext cx="196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The content of the data source configuration UI varies dynamically based on the currently select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1828800"/>
            <a:ext cx="4200480" cy="3952800"/>
            <a:chOff x="304920" y="1828800"/>
            <a:chExt cx="4200480" cy="39528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20048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33520" y="2819160"/>
              <a:ext cx="3810240" cy="1752840"/>
            </a:xfrm>
            <a:prstGeom prst="rect">
              <a:avLst/>
            </a:prstGeom>
            <a:solidFill>
              <a:srgbClr val="e6e7e1">
                <a:alpha val="6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240" y="2133360"/>
              <a:ext cx="403848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419720" y="2362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9240" y="723960"/>
            <a:ext cx="330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9240" y="714240"/>
            <a:ext cx="3305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670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uhiainen Marjaana</cp:lastModifiedBy>
  <dcterms:modified xsi:type="dcterms:W3CDTF">2007-09-19T10:01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