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5A8-D1DC-4BA5-BA1C-FA736E68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B6C0-AEB3-46BD-B610-4581E908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90EE-5A7E-4B93-A3C9-314C6B08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D06-E5D8-46FE-A52B-8A6E40C8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C04-BED5-43E2-8B6E-DE2F306A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6E7-7114-4C71-BE47-55195A19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BC3-DB02-4E6A-9278-5F8A023F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878-8335-4BF7-B865-6E1075BA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B49-B643-40C0-BCD2-AFE6EB04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0ABF-A2FE-47C6-9DDF-0B3A35EE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B27-9F9D-4980-B1BD-36EE325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224-09D5-4CD9-94A4-7CFA490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5618-923C-4F0D-8297-5C4C0BDBB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43360" y="2209680"/>
            <a:ext cx="211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A combo box is used to select the currently us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43360" y="2819520"/>
            <a:ext cx="196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0000"/>
                </a:solidFill>
                <a:latin typeface="Arial"/>
              </a:rPr>
              <a:t>The content of the data source configuration UI varies dynamically based on the currently selected data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04920" y="1828800"/>
            <a:ext cx="4200480" cy="3952800"/>
            <a:chOff x="304920" y="1828800"/>
            <a:chExt cx="4200480" cy="39528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04920" y="1828800"/>
              <a:ext cx="4200480" cy="39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33520" y="2819160"/>
              <a:ext cx="3810240" cy="1752840"/>
            </a:xfrm>
            <a:prstGeom prst="rect">
              <a:avLst/>
            </a:prstGeom>
            <a:solidFill>
              <a:srgbClr val="e6e7e1">
                <a:alpha val="66000"/>
              </a:srgbClr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240" y="2133360"/>
              <a:ext cx="403848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41972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2971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9240" y="723960"/>
            <a:ext cx="330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19240" y="714240"/>
            <a:ext cx="33055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42670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uhiainen Marjaana</cp:lastModifiedBy>
  <dcterms:modified xsi:type="dcterms:W3CDTF">2007-09-19T10:01:0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