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5923-B718-4112-8F99-248057EC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1521-DBF2-40B0-A4E1-90AC195C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A414-E421-49E1-9688-994AEA96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69C6-AEA6-47F5-9436-5CE69F28C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16E8-2741-4AA9-B48F-7B000600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E07E-DD15-4EB6-849E-C1728234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52A0-F2A7-4B04-8BB4-AA6F56D8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2FDB-694D-4093-AA1F-5A29444B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F4A6-64FA-4AEA-A12C-47EFE7FA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0DD7-D0C6-4548-A630-F9FE5051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C85B-DE5F-4986-95F9-A765A398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5135-A116-4AD6-AD06-B6180AA3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18FA-9D68-41A8-A640-01DE8A9B5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43360" y="2209680"/>
            <a:ext cx="2114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A combo box is used to select the currently us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43360" y="2819520"/>
            <a:ext cx="1962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The content of the data source configuration UI varies dynamically based on the currently select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04920" y="1828800"/>
            <a:ext cx="4200480" cy="3952800"/>
            <a:chOff x="304920" y="1828800"/>
            <a:chExt cx="4200480" cy="39528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304920" y="1828800"/>
              <a:ext cx="4200480" cy="39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33520" y="2819160"/>
              <a:ext cx="3810240" cy="1752840"/>
            </a:xfrm>
            <a:prstGeom prst="rect">
              <a:avLst/>
            </a:prstGeom>
            <a:solidFill>
              <a:srgbClr val="e6e7e1">
                <a:alpha val="66000"/>
              </a:srgbClr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1240" y="2133360"/>
              <a:ext cx="4038480" cy="457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419720" y="23623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19240" y="723960"/>
            <a:ext cx="3305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19240" y="714240"/>
            <a:ext cx="33055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426708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uhiainen Marjaana</cp:lastModifiedBy>
  <dcterms:modified xsi:type="dcterms:W3CDTF">2007-09-19T10:01:0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