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sldImg"/>
          </p:nvPr>
        </p:nvSpPr>
        <p:spPr>
          <a:xfrm>
            <a:off x="0" y="812520"/>
            <a:ext cx="0" cy="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D5034CAF-B1EA-434E-813D-CE97EFC7F23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100000"/>
              </a:lnSpc>
              <a:buNone/>
            </a:pPr>
            <a:r>
              <a:rPr b="0" i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00ff"/>
              </a:gs>
            </a:gsLst>
            <a:lin ang="5400000"/>
          </a:gra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 txBox="1"/>
          <p:nvPr/>
        </p:nvSpPr>
        <p:spPr>
          <a:xfrm>
            <a:off x="685800" y="2286000"/>
            <a:ext cx="7772400" cy="830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800" spc="-1" strike="noStrike">
                <a:solidFill>
                  <a:srgbClr val="ffff00"/>
                </a:solidFill>
                <a:latin typeface="Arial Rounded MT Bold"/>
                <a:ea typeface="Arial Rounded MT Bold"/>
              </a:rPr>
              <a:t>Makmake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685800" y="4038480"/>
            <a:ext cx="7772400" cy="2743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astair Bradle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Psion Software pl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18th November 1997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 txBox="1"/>
          <p:nvPr/>
        </p:nvSpPr>
        <p:spPr>
          <a:xfrm>
            <a:off x="782640" y="1143000"/>
            <a:ext cx="599904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  MYPROJ  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7160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6400800" y="297180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5181480" y="48769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 txBox="1"/>
          <p:nvPr/>
        </p:nvSpPr>
        <p:spPr>
          <a:xfrm>
            <a:off x="152280" y="3048120"/>
            <a:ext cx="24382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962520" y="5334120"/>
            <a:ext cx="106668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447920" y="1752480"/>
            <a:ext cx="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971800" y="1828800"/>
            <a:ext cx="762480" cy="2895840"/>
          </a:xfrm>
          <a:custGeom>
            <a:avLst/>
            <a:gdLst/>
            <a:ahLst/>
            <a:rect l="0" t="0" r="r" b="b"/>
            <a:pathLst>
              <a:path fill="none" w="2118" h="8044">
                <a:moveTo>
                  <a:pt x="2118" y="0"/>
                </a:moveTo>
                <a:lnTo>
                  <a:pt x="2118" y="5716"/>
                </a:lnTo>
                <a:lnTo>
                  <a:pt x="0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 txBox="1"/>
          <p:nvPr/>
        </p:nvSpPr>
        <p:spPr>
          <a:xfrm>
            <a:off x="2575080" y="2193840"/>
            <a:ext cx="12081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 .mm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572000" y="1905120"/>
            <a:ext cx="838440" cy="2895840"/>
          </a:xfrm>
          <a:custGeom>
            <a:avLst/>
            <a:gdLst/>
            <a:ahLst/>
            <a:rect l="0" t="0" r="r" b="b"/>
            <a:pathLst>
              <a:path fill="none" w="2329" h="8044">
                <a:moveTo>
                  <a:pt x="0" y="0"/>
                </a:moveTo>
                <a:lnTo>
                  <a:pt x="0" y="5292"/>
                </a:lnTo>
                <a:lnTo>
                  <a:pt x="2329" y="804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56160" y="2193840"/>
            <a:ext cx="12254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+.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6324480" y="1828800"/>
            <a:ext cx="685800" cy="9907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5562720" y="1828800"/>
            <a:ext cx="0" cy="3808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30200" y="1050840"/>
            <a:ext cx="330372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09480" y="1828800"/>
            <a:ext cx="381240" cy="304920"/>
          </a:xfrm>
          <a:prstGeom prst="line">
            <a:avLst/>
          </a:prstGeom>
          <a:ln w="12600">
            <a:solidFill>
              <a:srgbClr val="ffffff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 txBox="1"/>
          <p:nvPr/>
        </p:nvSpPr>
        <p:spPr>
          <a:xfrm>
            <a:off x="762120" y="21337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oad 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762120" y="33526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ad MMP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905120" y="28195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743200" y="1447920"/>
            <a:ext cx="1448280" cy="3124440"/>
          </a:xfrm>
          <a:custGeom>
            <a:avLst/>
            <a:gdLst/>
            <a:ahLst/>
            <a:rect l="0" t="0" r="r" b="b"/>
            <a:pathLst>
              <a:path fill="none" w="4023" h="8679">
                <a:moveTo>
                  <a:pt x="0" y="7197"/>
                </a:moveTo>
                <a:lnTo>
                  <a:pt x="0" y="8679"/>
                </a:lnTo>
                <a:lnTo>
                  <a:pt x="2541" y="8679"/>
                </a:lnTo>
                <a:lnTo>
                  <a:pt x="2541" y="0"/>
                </a:lnTo>
                <a:lnTo>
                  <a:pt x="4023" y="0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267080" y="1143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6324480" y="14479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 txBox="1"/>
          <p:nvPr/>
        </p:nvSpPr>
        <p:spPr>
          <a:xfrm>
            <a:off x="4343400" y="28195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6781680" y="22860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4343400" y="40384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4343400" y="52578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6781680" y="32767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6781680" y="46483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6400800" y="57913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 flipV="1">
            <a:off x="6324480" y="47242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 flipV="1">
            <a:off x="6324480" y="35053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3505320" y="3200400"/>
            <a:ext cx="838440" cy="2819880"/>
          </a:xfrm>
          <a:custGeom>
            <a:avLst/>
            <a:gdLst/>
            <a:ahLst/>
            <a:rect l="0" t="0" r="r" b="b"/>
            <a:pathLst>
              <a:path fill="none" w="2329" h="7833">
                <a:moveTo>
                  <a:pt x="2329" y="0"/>
                </a:moveTo>
                <a:lnTo>
                  <a:pt x="1482" y="0"/>
                </a:lnTo>
                <a:lnTo>
                  <a:pt x="1482" y="7833"/>
                </a:lnTo>
                <a:lnTo>
                  <a:pt x="0" y="783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990720" y="57150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rite Make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 flipH="1">
            <a:off x="533520" y="4038480"/>
            <a:ext cx="533160" cy="38124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0" y="4403880"/>
            <a:ext cx="912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e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609480" y="4861080"/>
            <a:ext cx="157320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1371600" y="4038480"/>
            <a:ext cx="457200" cy="9144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How Makmake Work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6246720" y="13716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304120" y="1676520"/>
            <a:ext cx="838440" cy="838440"/>
          </a:xfrm>
          <a:custGeom>
            <a:avLst/>
            <a:gdLst/>
            <a:ahLst/>
            <a:rect l="0" t="0" r="r" b="b"/>
            <a:pathLst>
              <a:path fill="none" w="2329" h="2329">
                <a:moveTo>
                  <a:pt x="1058" y="0"/>
                </a:moveTo>
                <a:lnTo>
                  <a:pt x="2329" y="0"/>
                </a:lnTo>
                <a:lnTo>
                  <a:pt x="2329" y="2329"/>
                </a:lnTo>
                <a:lnTo>
                  <a:pt x="0" y="2329"/>
                </a:lnTo>
                <a:lnTo>
                  <a:pt x="0" y="105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6323040" y="304812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8761320" y="2514600"/>
            <a:ext cx="381240" cy="609840"/>
          </a:xfrm>
          <a:custGeom>
            <a:avLst/>
            <a:gdLst/>
            <a:ahLst/>
            <a:rect l="0" t="0" r="r" b="b"/>
            <a:pathLst>
              <a:path fill="none" w="1059" h="1694">
                <a:moveTo>
                  <a:pt x="1059" y="0"/>
                </a:moveTo>
                <a:lnTo>
                  <a:pt x="1059" y="1694"/>
                </a:lnTo>
                <a:lnTo>
                  <a:pt x="0" y="1694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6323040" y="426708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 Fi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6323040" y="5486400"/>
            <a:ext cx="243828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uild Vari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8761320" y="3505320"/>
            <a:ext cx="381240" cy="838440"/>
          </a:xfrm>
          <a:custGeom>
            <a:avLst/>
            <a:gdLst/>
            <a:ahLst/>
            <a:rect l="0" t="0" r="r" b="b"/>
            <a:pathLst>
              <a:path fill="none" w="1059" h="2329">
                <a:moveTo>
                  <a:pt x="0" y="0"/>
                </a:moveTo>
                <a:lnTo>
                  <a:pt x="1059" y="0"/>
                </a:lnTo>
                <a:lnTo>
                  <a:pt x="1059" y="2329"/>
                </a:lnTo>
                <a:lnTo>
                  <a:pt x="0" y="2329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61320" y="4876920"/>
            <a:ext cx="381240" cy="762480"/>
          </a:xfrm>
          <a:custGeom>
            <a:avLst/>
            <a:gdLst/>
            <a:ahLst/>
            <a:rect l="0" t="0" r="r" b="b"/>
            <a:pathLst>
              <a:path fill="none" w="1059" h="2118">
                <a:moveTo>
                  <a:pt x="0" y="0"/>
                </a:moveTo>
                <a:lnTo>
                  <a:pt x="1059" y="0"/>
                </a:lnTo>
                <a:lnTo>
                  <a:pt x="1059" y="2118"/>
                </a:lnTo>
                <a:lnTo>
                  <a:pt x="0" y="2118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380440" y="6019920"/>
            <a:ext cx="762480" cy="686160"/>
          </a:xfrm>
          <a:custGeom>
            <a:avLst/>
            <a:gdLst/>
            <a:ahLst/>
            <a:rect l="0" t="0" r="r" b="b"/>
            <a:pathLst>
              <a:path fill="none" w="2118" h="1906">
                <a:moveTo>
                  <a:pt x="1059" y="0"/>
                </a:moveTo>
                <a:lnTo>
                  <a:pt x="2118" y="0"/>
                </a:lnTo>
                <a:lnTo>
                  <a:pt x="2118" y="1906"/>
                </a:lnTo>
                <a:lnTo>
                  <a:pt x="0" y="1906"/>
                </a:lnTo>
                <a:lnTo>
                  <a:pt x="0" y="42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flipV="1">
            <a:off x="8304120" y="4952880"/>
            <a:ext cx="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8304120" y="3733920"/>
            <a:ext cx="0" cy="53316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 txBox="1"/>
          <p:nvPr/>
        </p:nvSpPr>
        <p:spPr>
          <a:xfrm>
            <a:off x="0" y="1676520"/>
            <a:ext cx="6095880" cy="155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DEB)\myproj.dll :$(OBJ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d --output-dir …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TRGUREL)\myproj.dll : $(OBJS)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593640" y="1050840"/>
            <a:ext cx="12682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Link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93640" y="3413160"/>
            <a:ext cx="167472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24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Compi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60480" y="4098960"/>
            <a:ext cx="6078600" cy="1917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DEB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-s -no-omit-frame-ptr 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$(EPOCBLDUREL)\mysrc.o : $(DEPEND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pp -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Current Makmake Modu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3505320" y="3200400"/>
            <a:ext cx="2057400" cy="7621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1371600" y="20574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6095880" y="2590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 txBox="1"/>
          <p:nvPr/>
        </p:nvSpPr>
        <p:spPr>
          <a:xfrm>
            <a:off x="4495680" y="17524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6172200" y="388620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 txBox="1"/>
          <p:nvPr/>
        </p:nvSpPr>
        <p:spPr>
          <a:xfrm>
            <a:off x="47242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914400" y="373392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 txBox="1"/>
          <p:nvPr/>
        </p:nvSpPr>
        <p:spPr>
          <a:xfrm>
            <a:off x="2209680" y="4724280"/>
            <a:ext cx="1905120" cy="6858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Vc5winc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 flipH="1" flipV="1">
            <a:off x="2971800" y="2590920"/>
            <a:ext cx="533520" cy="6094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648320" y="2438280"/>
            <a:ext cx="45720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flipV="1">
            <a:off x="5562720" y="3124080"/>
            <a:ext cx="60948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5562720" y="3733920"/>
            <a:ext cx="609480" cy="3808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4952880" y="4038480"/>
            <a:ext cx="30492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 flipH="1">
            <a:off x="3505320" y="4038480"/>
            <a:ext cx="380880" cy="7621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>
            <a:off x="2666880" y="3657600"/>
            <a:ext cx="838440" cy="3049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 txBox="1"/>
          <p:nvPr/>
        </p:nvSpPr>
        <p:spPr>
          <a:xfrm>
            <a:off x="457200" y="571500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5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6629400" y="5791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Ide_vc4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7010280" y="129528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win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 txBox="1"/>
          <p:nvPr/>
        </p:nvSpPr>
        <p:spPr>
          <a:xfrm>
            <a:off x="228600" y="1219320"/>
            <a:ext cx="1752480" cy="533520"/>
          </a:xfrm>
          <a:prstGeom prst="rect">
            <a:avLst/>
          </a:prstGeom>
          <a:solidFill>
            <a:srgbClr val="ff99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Cl_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 flipH="1" flipV="1">
            <a:off x="1447920" y="1752480"/>
            <a:ext cx="3808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 flipH="1">
            <a:off x="990720" y="4419720"/>
            <a:ext cx="380880" cy="12952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619280" y="5334120"/>
            <a:ext cx="895680" cy="381240"/>
          </a:xfrm>
          <a:custGeom>
            <a:avLst/>
            <a:gdLst/>
            <a:ahLst/>
            <a:rect l="0" t="0" r="r" b="b"/>
            <a:pathLst>
              <a:path fill="none" w="2488" h="1059">
                <a:moveTo>
                  <a:pt x="2488" y="0"/>
                </a:moveTo>
                <a:lnTo>
                  <a:pt x="158" y="1059"/>
                </a:lnTo>
                <a:lnTo>
                  <a:pt x="0" y="1059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248520" y="5410080"/>
            <a:ext cx="838080" cy="38124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620120" y="4572000"/>
            <a:ext cx="0" cy="121932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6019920" y="1676520"/>
            <a:ext cx="991080" cy="152640"/>
          </a:xfrm>
          <a:custGeom>
            <a:avLst/>
            <a:gdLst/>
            <a:ahLst/>
            <a:rect l="0" t="0" r="r" b="b"/>
            <a:pathLst>
              <a:path fill="none" w="2753" h="424">
                <a:moveTo>
                  <a:pt x="0" y="424"/>
                </a:moveTo>
                <a:lnTo>
                  <a:pt x="410" y="305"/>
                </a:lnTo>
                <a:lnTo>
                  <a:pt x="2753" y="0"/>
                </a:lnTo>
              </a:path>
            </a:pathLst>
          </a:custGeom>
          <a:ln w="12600">
            <a:solidFill>
              <a:srgbClr val="ffffff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7467480" y="1828800"/>
            <a:ext cx="152640" cy="83808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y Perl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 txBox="1"/>
          <p:nvPr/>
        </p:nvSpPr>
        <p:spPr>
          <a:xfrm>
            <a:off x="533520" y="1752480"/>
            <a:ext cx="80010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powerful than C++ for manipulating tex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regular expression pars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- ease of redirecting I/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No need for advanced class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Quick and easy for anyone to write new platform mod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ore I can’t think of right n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Files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 txBox="1"/>
          <p:nvPr/>
        </p:nvSpPr>
        <p:spPr>
          <a:xfrm>
            <a:off x="685800" y="1143000"/>
            <a:ext cx="6705720" cy="541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if defined(WINS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\wins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lif defined(MARM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EFFILE \marmdefdir\myproj.de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#endi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BASEADDRESS 0x5000000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 txBox="1"/>
          <p:nvPr/>
        </p:nvSpPr>
        <p:spPr>
          <a:xfrm>
            <a:off x="457200" y="922320"/>
            <a:ext cx="8685360" cy="59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ap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TYP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pp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dll, exe, exedll, ldd, pd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TARGETPATH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system\apps\grshe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e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UBPRO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aph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zoom.cpp grbmap.cpp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RICTDEPE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SER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INCLUD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user.lib efsrv.lib estor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UI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 0x1000006c 0x010000a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DEFFI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\epoc32\include\eikapp.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OSTRICT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grshell.rs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YSTEMRESOURC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LANG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 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 txBox="1"/>
          <p:nvPr/>
        </p:nvSpPr>
        <p:spPr>
          <a:xfrm>
            <a:off x="517680" y="3260880"/>
            <a:ext cx="8026560" cy="228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START 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BASEADDRESS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0x500000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32_LIBRARY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kernel32.lib gdi32.lib user32.li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AUTOUI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ND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 txBox="1"/>
          <p:nvPr/>
        </p:nvSpPr>
        <p:spPr>
          <a:xfrm>
            <a:off x="644400" y="1494000"/>
            <a:ext cx="4519440" cy="118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// New keywo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BJEC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precompob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 txBox="1"/>
          <p:nvPr/>
        </p:nvSpPr>
        <p:spPr>
          <a:xfrm>
            <a:off x="0" y="38160"/>
            <a:ext cx="914256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Using Makmake in Epoc32 Projec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 txBox="1"/>
          <p:nvPr/>
        </p:nvSpPr>
        <p:spPr>
          <a:xfrm>
            <a:off x="0" y="546120"/>
            <a:ext cx="9067680" cy="6311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of directory \myproj\bmmp recommended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longside \myproj\bwins &amp; \myproj\bm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Use NMAKE to ensure the makefiles are up to dat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DEB : myproj.wins 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epoc32\release\wins\deb\myproj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make /f  myproj.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yproj.wins : ..\bmmp\myproj.mmp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..\bmmp\myproj wi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71680">
              <a:lnSpc>
                <a:spcPct val="100000"/>
              </a:lnSpc>
              <a:spcBef>
                <a:spcPts val="479"/>
              </a:spcBef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 STDLI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What base team is do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 txBox="1"/>
          <p:nvPr/>
        </p:nvSpPr>
        <p:spPr>
          <a:xfrm>
            <a:off x="609480" y="1219320"/>
            <a:ext cx="7924680" cy="267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/d makmake flag to put makefiles in \EPOC32\MAKE\[platform]\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57168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ing new perl tool, bldmake, to create bld.bat in \e32\[platform]\ from a list of mmp files in \e32\group\b[platform].pr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Overview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685800" y="952560"/>
            <a:ext cx="81532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here to find thi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univ\sem\1997q4\makmake\update.pp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tructure of 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he Need for Mak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Design of Makmake to satisfy this nee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ow Makmake Wor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rief Suggestions for Us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Further inform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 txBox="1"/>
          <p:nvPr/>
        </p:nvSpPr>
        <p:spPr>
          <a:xfrm>
            <a:off x="152280" y="1409760"/>
            <a:ext cx="8915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D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tools\tlmakmak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743040" indent="-285840">
              <a:lnSpc>
                <a:spcPct val="100000"/>
              </a:lnSpc>
              <a:spcBef>
                <a:spcPts val="479"/>
              </a:spcBef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\\Harcourt-web\SDK-HTML\intro\inbuild.htm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r:\stdlib,  r:\epoc32e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SVC help - NMAK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akmake /mmp [platform]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The Need For Makmak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 txBox="1"/>
          <p:nvPr/>
        </p:nvSpPr>
        <p:spPr>
          <a:xfrm>
            <a:off x="685800" y="1028880"/>
            <a:ext cx="7848720" cy="80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Epoc32 S/W designed to be por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685800" y="2666880"/>
            <a:ext cx="2590920" cy="11430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EPOC3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5486400" y="327672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5486400" y="205740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5486400" y="4495680"/>
            <a:ext cx="2286000" cy="7621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Others 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3505320" y="2438280"/>
            <a:ext cx="1523880" cy="53352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581280" y="3352680"/>
            <a:ext cx="1371600" cy="2286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3429000" y="3733920"/>
            <a:ext cx="1371600" cy="8380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685800" y="647640"/>
            <a:ext cx="7772400" cy="1856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Different things for different Platforms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 txBox="1"/>
          <p:nvPr/>
        </p:nvSpPr>
        <p:spPr>
          <a:xfrm>
            <a:off x="1066680" y="1981080"/>
            <a:ext cx="160020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1143000" y="2971800"/>
            <a:ext cx="1523880" cy="4572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 txBox="1"/>
          <p:nvPr/>
        </p:nvSpPr>
        <p:spPr>
          <a:xfrm>
            <a:off x="3411360" y="2940120"/>
            <a:ext cx="44942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gcc.exe, ld.exe, deftool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3259080" y="1949400"/>
            <a:ext cx="474984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l.exe, link.exe, defmake.ex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380880" y="388620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fferent tools means different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5486400"/>
            <a:ext cx="8077320" cy="106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WINS development platform requires support for IDE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380880" y="4648320"/>
            <a:ext cx="838188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91440" indent="-9144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s do different build and release directo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 txBox="1"/>
          <p:nvPr/>
        </p:nvSpPr>
        <p:spPr>
          <a:xfrm>
            <a:off x="685800" y="952560"/>
            <a:ext cx="7848720" cy="571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maktran myproj.mak myproj.ar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 txBox="1"/>
          <p:nvPr/>
        </p:nvSpPr>
        <p:spPr>
          <a:xfrm>
            <a:off x="380880" y="2057400"/>
            <a:ext cx="259092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TRAN.EX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 txBox="1"/>
          <p:nvPr/>
        </p:nvSpPr>
        <p:spPr>
          <a:xfrm>
            <a:off x="1981080" y="3124080"/>
            <a:ext cx="2514600" cy="83808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MA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 txBox="1"/>
          <p:nvPr/>
        </p:nvSpPr>
        <p:spPr>
          <a:xfrm>
            <a:off x="5867280" y="3124080"/>
            <a:ext cx="2666880" cy="91440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YPROJ.AR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648320" y="3581280"/>
            <a:ext cx="990360" cy="0"/>
          </a:xfrm>
          <a:prstGeom prst="line">
            <a:avLst/>
          </a:prstGeom>
          <a:ln w="7632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-83160" bIns="-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143000" y="1447920"/>
            <a:ext cx="228960" cy="533880"/>
          </a:xfrm>
          <a:custGeom>
            <a:avLst/>
            <a:gdLst/>
            <a:ahLst/>
            <a:rect l="0" t="0" r="r" b="b"/>
            <a:pathLst>
              <a:path fill="none" w="636" h="1483">
                <a:moveTo>
                  <a:pt x="0" y="0"/>
                </a:moveTo>
                <a:lnTo>
                  <a:pt x="0" y="1059"/>
                </a:lnTo>
                <a:lnTo>
                  <a:pt x="636" y="1483"/>
                </a:lnTo>
              </a:path>
            </a:pathLst>
          </a:custGeom>
          <a:ln w="12600">
            <a:solidFill>
              <a:srgbClr val="ffffff"/>
            </a:solidFill>
            <a:round/>
            <a:tailEnd len="med" type="triangle" w="med"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581280" y="1676520"/>
            <a:ext cx="0" cy="129528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00800" y="1752480"/>
            <a:ext cx="0" cy="1143000"/>
          </a:xfrm>
          <a:prstGeom prst="line">
            <a:avLst/>
          </a:prstGeom>
          <a:ln w="1260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 txBox="1"/>
          <p:nvPr/>
        </p:nvSpPr>
        <p:spPr>
          <a:xfrm>
            <a:off x="609480" y="4267080"/>
            <a:ext cx="8001000" cy="243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ynchronises MARM and WINS makefiles quic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traightforwar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tran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Disadvantag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not very extensible to new platfor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everyone needs to be able to navigate MSVC build settings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or worse, edit MSVC make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INS compiler and linker flags may differ between projec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uses MSVC as a base - would need rewriting for MSVC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Won’t work at e32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 txBox="1"/>
          <p:nvPr/>
        </p:nvSpPr>
        <p:spPr>
          <a:xfrm>
            <a:off x="685800" y="952560"/>
            <a:ext cx="777240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Separates handling of platform-independent and platform-dependent elements of making make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533520" y="3733920"/>
            <a:ext cx="2514600" cy="990720"/>
          </a:xfrm>
          <a:prstGeom prst="rect">
            <a:avLst/>
          </a:prstGeom>
          <a:solidFill>
            <a:srgbClr val="000000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KMAKE.P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5486400" y="403848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MARM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 txBox="1"/>
          <p:nvPr/>
        </p:nvSpPr>
        <p:spPr>
          <a:xfrm>
            <a:off x="5410080" y="259092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WINS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 txBox="1"/>
          <p:nvPr/>
        </p:nvSpPr>
        <p:spPr>
          <a:xfrm>
            <a:off x="5486400" y="5486400"/>
            <a:ext cx="1981080" cy="990720"/>
          </a:xfrm>
          <a:prstGeom prst="rect">
            <a:avLst/>
          </a:prstGeom>
          <a:solidFill>
            <a:srgbClr val="ff0033"/>
          </a:solidFill>
          <a:ln w="12600">
            <a:solidFill>
              <a:srgbClr val="ffffff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  <a:ea typeface="Arial"/>
              </a:rPr>
              <a:t>NEW.P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3048120" y="3124080"/>
            <a:ext cx="2361960" cy="9144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048120" y="4343400"/>
            <a:ext cx="2514600" cy="22860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19520" y="4648320"/>
            <a:ext cx="2819160" cy="1218960"/>
          </a:xfrm>
          <a:prstGeom prst="line">
            <a:avLst/>
          </a:prstGeom>
          <a:ln w="1260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akmake &amp; Epoc Portability 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57200" y="1371600"/>
            <a:ext cx="4038480" cy="4952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Independent Features handled by Makmake.p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source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header fi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include path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-to librar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4724280" y="1333440"/>
            <a:ext cx="3809880" cy="491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Platform-Dependent Features handled by &lt;Platform&gt;.p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compil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link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build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target director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479"/>
              </a:spcBef>
              <a:buClr>
                <a:srgbClr val="ffffff"/>
              </a:buClr>
              <a:buSzPct val="45000"/>
              <a:buFont typeface="CP1252"/>
              <a:buChar char=""/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Arial"/>
              </a:rPr>
              <a:t>more .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685800" y="38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1" i="1" lang="en-US" sz="4400" spc="-1" strike="noStrike">
                <a:solidFill>
                  <a:srgbClr val="ffff00"/>
                </a:solidFill>
                <a:latin typeface="Times New Roman"/>
                <a:ea typeface="Times New Roman"/>
              </a:rPr>
              <a:t>MMP Fi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685800" y="876240"/>
            <a:ext cx="7772400" cy="58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M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ake </a:t>
            </a:r>
            <a:r>
              <a:rPr b="0" lang="en-US" sz="3200" spc="-1" strike="noStrike" u="sng">
                <a:solidFill>
                  <a:srgbClr val="ffffff"/>
                </a:solidFill>
                <a:uFillTx/>
                <a:latin typeface="Arial"/>
                <a:ea typeface="Arial"/>
              </a:rPr>
              <a:t>P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roject Control Fi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//Examp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TARGETTYP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dll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ID 0x1000008d 0x10000251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UBPROJECT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ng0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OURC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bosseng.cpp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USERINCLUDE .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SYSTEMINCLUDE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\epoc32\include</a:t>
            </a:r>
            <a:br>
              <a:rPr sz="2000"/>
            </a:b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LIBRARY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	</a:t>
            </a:r>
            <a:r>
              <a:rPr b="1" lang="en-US" sz="2000" spc="-1" strike="noStrike">
                <a:solidFill>
                  <a:srgbClr val="ffffff"/>
                </a:solidFill>
                <a:latin typeface="Arial Rounded MT Bold"/>
                <a:ea typeface="Arial Rounded MT Bold"/>
              </a:rPr>
              <a:t>euser.lib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79"/>
              </a:spcBef>
              <a:buClr>
                <a:srgbClr val="ffff00"/>
              </a:buClr>
              <a:buSzPct val="75000"/>
              <a:buFont typeface="Monotype Sorts"/>
              <a:buChar char=""/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  <a:ea typeface="Arial"/>
              </a:rPr>
              <a:t>Contains platform-independent information for a particular project, generally.  Simple, easy to edit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artin P Tasker</dc:creator>
  <dc:description/>
  <dc:language>en-US</dc:language>
  <cp:lastModifiedBy>Martin P Tasker</cp:lastModifiedBy>
  <cp:revision>0</cp:revision>
  <dc:subject>OO Basics</dc:subject>
  <dc:title>Object Orientation in EPOC32</dc:title>
</cp:coreProperties>
</file>