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08AC-133C-4B81-A8A0-5D5D9641E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8BC9-6036-4F8D-9354-AE241F49A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0E33-848C-4A04-8066-DF0A6292A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6C8B-83D2-4739-80EC-FF54CD71D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022A-B5B7-44FD-B7FC-AFE272F29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68B3-5520-44A8-A2C1-AF7517CAF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A847-1B5F-491D-94A5-47DA4D4C4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1E69-F158-40F2-B428-9DC9857CC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DC06-C5C7-4F08-9AC8-4D89B9479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46EC-6C07-4D37-B19B-564B541EA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C72B-8B1F-4745-A802-6D31A0F37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F8C5-161F-4D72-8E10-D5F082346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F9CAD-5337-47FE-A880-264CB3AADA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20720" y="1000080"/>
            <a:ext cx="5008680" cy="6848640"/>
            <a:chOff x="1620720" y="1000080"/>
            <a:chExt cx="5008680" cy="6848640"/>
          </a:xfrm>
        </p:grpSpPr>
        <p:sp>
          <p:nvSpPr>
            <p:cNvPr id="42" name=""/>
            <p:cNvSpPr/>
            <p:nvPr/>
          </p:nvSpPr>
          <p:spPr>
            <a:xfrm>
              <a:off x="1620720" y="2057400"/>
              <a:ext cx="500868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48640" y="205740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POC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20720" y="5791320"/>
              <a:ext cx="50086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30480" y="5791320"/>
              <a:ext cx="179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inTunnel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49320" y="609588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36160" y="6095880"/>
              <a:ext cx="5176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20720" y="7162920"/>
              <a:ext cx="5008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49320" y="739152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TP 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39440" y="716292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TP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78240" y="6324480"/>
              <a:ext cx="75960" cy="1067040"/>
            </a:xfrm>
            <a:prstGeom prst="upDownArrow">
              <a:avLst>
                <a:gd name="adj1" fmla="val 50000"/>
                <a:gd name="adj2" fmla="val 27964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68520" y="5038560"/>
              <a:ext cx="85680" cy="1067040"/>
            </a:xfrm>
            <a:prstGeom prst="upDownArrow">
              <a:avLst>
                <a:gd name="adj1" fmla="val 50000"/>
                <a:gd name="adj2" fmla="val 24792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90840" y="1000080"/>
              <a:ext cx="47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5" idx="0"/>
            </p:cNvCxnSpPr>
            <p:nvPr/>
          </p:nvCxnSpPr>
          <p:spPr>
            <a:xfrm flipV="1">
              <a:off x="2509920" y="1551960"/>
              <a:ext cx="1027440" cy="72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866960" y="2276640"/>
              <a:ext cx="3335400" cy="2739600"/>
              <a:chOff x="1866960" y="2276640"/>
              <a:chExt cx="3335400" cy="2739600"/>
            </a:xfrm>
          </p:grpSpPr>
          <p:sp>
            <p:nvSpPr>
              <p:cNvPr id="55" name=""/>
              <p:cNvSpPr/>
              <p:nvPr/>
            </p:nvSpPr>
            <p:spPr>
              <a:xfrm>
                <a:off x="1866960" y="227664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TP Cli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66960" y="281952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Soc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66960" y="332424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PP Ni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63920" y="3200400"/>
                <a:ext cx="838440" cy="38088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66960" y="3809880"/>
                <a:ext cx="12571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G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66960" y="426708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M.TS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66960" y="480060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inTunn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505320" y="2819520"/>
                <a:ext cx="533160" cy="1904400"/>
                <a:chOff x="3505320" y="2819520"/>
                <a:chExt cx="533160" cy="19044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505320" y="2819520"/>
                  <a:ext cx="533160" cy="1904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506400" y="2819520"/>
                  <a:ext cx="503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fm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4348440" y="328464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D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" name=""/>
              <p:cNvCxnSpPr>
                <a:stCxn id="55" idx="2"/>
                <a:endCxn id="57" idx="0"/>
              </p:cNvCxnSpPr>
              <p:nvPr/>
            </p:nvCxnSpPr>
            <p:spPr>
              <a:xfrm flipH="1">
                <a:off x="2505960" y="2492280"/>
                <a:ext cx="4320" cy="327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8" name=""/>
              <p:cNvCxnSpPr>
                <a:stCxn id="57" idx="2"/>
                <a:endCxn id="58" idx="0"/>
              </p:cNvCxnSpPr>
              <p:nvPr/>
            </p:nvCxnSpPr>
            <p:spPr>
              <a:xfrm>
                <a:off x="2505960" y="3035160"/>
                <a:ext cx="360" cy="289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69" name=""/>
              <p:cNvSpPr/>
              <p:nvPr/>
            </p:nvSpPr>
            <p:spPr>
              <a:xfrm>
                <a:off x="3124080" y="28954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24080" y="34290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124080" y="38862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" name=""/>
              <p:cNvCxnSpPr>
                <a:stCxn id="58" idx="2"/>
                <a:endCxn id="60" idx="0"/>
              </p:cNvCxnSpPr>
              <p:nvPr/>
            </p:nvCxnSpPr>
            <p:spPr>
              <a:xfrm flipH="1">
                <a:off x="2495520" y="3539880"/>
                <a:ext cx="10800" cy="270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3" name=""/>
              <p:cNvCxnSpPr>
                <a:stCxn id="60" idx="2"/>
                <a:endCxn id="61" idx="0"/>
              </p:cNvCxnSpPr>
              <p:nvPr/>
            </p:nvCxnSpPr>
            <p:spPr>
              <a:xfrm>
                <a:off x="2495520" y="4025520"/>
                <a:ext cx="1080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4" name=""/>
              <p:cNvCxnSpPr>
                <a:stCxn id="61" idx="2"/>
                <a:endCxn id="62" idx="0"/>
              </p:cNvCxnSpPr>
              <p:nvPr/>
            </p:nvCxnSpPr>
            <p:spPr>
              <a:xfrm>
                <a:off x="2505960" y="4482720"/>
                <a:ext cx="4320" cy="31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75" name=""/>
              <p:cNvSpPr/>
              <p:nvPr/>
            </p:nvSpPr>
            <p:spPr>
              <a:xfrm>
                <a:off x="4048200" y="3400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33800" y="43815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7" name=""/>
            <p:cNvCxnSpPr>
              <a:stCxn id="46" idx="3"/>
              <a:endCxn id="47" idx="1"/>
            </p:cNvCxnSpPr>
            <p:nvPr/>
          </p:nvCxnSpPr>
          <p:spPr>
            <a:xfrm>
              <a:off x="3144960" y="6203520"/>
              <a:ext cx="69156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8" name=""/>
            <p:cNvGrpSpPr/>
            <p:nvPr/>
          </p:nvGrpSpPr>
          <p:grpSpPr>
            <a:xfrm>
              <a:off x="3438360" y="1214280"/>
              <a:ext cx="399960" cy="557280"/>
              <a:chOff x="3438360" y="1214280"/>
              <a:chExt cx="399960" cy="557280"/>
            </a:xfrm>
          </p:grpSpPr>
          <p:sp>
            <p:nvSpPr>
              <p:cNvPr id="79" name=""/>
              <p:cNvSpPr/>
              <p:nvPr/>
            </p:nvSpPr>
            <p:spPr>
              <a:xfrm>
                <a:off x="3438360" y="1473120"/>
                <a:ext cx="399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38520" y="1434960"/>
                <a:ext cx="0" cy="22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3438360" y="1658880"/>
                <a:ext cx="20016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38520" y="1658880"/>
                <a:ext cx="19980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524040" y="1214280"/>
                <a:ext cx="219240" cy="204840"/>
              </a:xfrm>
              <a:prstGeom prst="smileyFace">
                <a:avLst>
                  <a:gd name="adj" fmla="val 9282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9:31:52Z</dcterms:created>
  <dc:creator>EXTVictorM</dc:creator>
  <dc:description/>
  <dc:language>en-US</dc:language>
  <cp:lastModifiedBy>EXTVictorM</cp:lastModifiedBy>
  <dcterms:modified xsi:type="dcterms:W3CDTF">2004-03-24T20:56:25Z</dcterms:modified>
  <cp:revision>8</cp:revision>
  <dc:subject/>
  <dc:title>Slide 1</dc:title>
</cp:coreProperties>
</file>