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8350-29F0-44F7-AE59-F574ACD6F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BC90-A687-48A6-87C6-E0E280A9D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6ACD-3728-4C27-901E-1DB112294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ACAD-04F7-4061-BD03-51410F47D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33D3-C12C-48E1-9509-3BE3FFC8A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B23A-4C23-442F-803D-2493EB244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ADD2-B401-49DF-BE9F-576F0CDD1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2717-1D4D-47D6-8312-F187895F7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32F4-44EF-4BE1-B7E8-8DA650F28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85AF-E065-4F6B-A6B7-E90B69284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2E58-79B8-4CF8-B73E-3673B7E4C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D968-E9B5-4BE9-9EC9-1A3CC0F3B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B7831-1489-46D2-B69F-AAF880CD20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20720" y="1000080"/>
            <a:ext cx="5008680" cy="6848640"/>
            <a:chOff x="1620720" y="1000080"/>
            <a:chExt cx="5008680" cy="6848640"/>
          </a:xfrm>
        </p:grpSpPr>
        <p:sp>
          <p:nvSpPr>
            <p:cNvPr id="42" name=""/>
            <p:cNvSpPr/>
            <p:nvPr/>
          </p:nvSpPr>
          <p:spPr>
            <a:xfrm>
              <a:off x="1620720" y="2057400"/>
              <a:ext cx="500868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48640" y="205740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POC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20720" y="5791320"/>
              <a:ext cx="50086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30480" y="5791320"/>
              <a:ext cx="179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inTunnel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49320" y="609588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36160" y="6095880"/>
              <a:ext cx="5176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20720" y="7162920"/>
              <a:ext cx="5008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49320" y="739152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TP 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39440" y="716292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TP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78240" y="6324480"/>
              <a:ext cx="75960" cy="1067040"/>
            </a:xfrm>
            <a:prstGeom prst="upDownArrow">
              <a:avLst>
                <a:gd name="adj1" fmla="val 50000"/>
                <a:gd name="adj2" fmla="val 27964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68520" y="5038560"/>
              <a:ext cx="85680" cy="1067040"/>
            </a:xfrm>
            <a:prstGeom prst="upDownArrow">
              <a:avLst>
                <a:gd name="adj1" fmla="val 50000"/>
                <a:gd name="adj2" fmla="val 24792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90840" y="1000080"/>
              <a:ext cx="47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5" idx="0"/>
            </p:cNvCxnSpPr>
            <p:nvPr/>
          </p:nvCxnSpPr>
          <p:spPr>
            <a:xfrm flipV="1">
              <a:off x="2509920" y="1551960"/>
              <a:ext cx="1027440" cy="72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866960" y="2276640"/>
              <a:ext cx="3335400" cy="2739600"/>
              <a:chOff x="1866960" y="2276640"/>
              <a:chExt cx="3335400" cy="2739600"/>
            </a:xfrm>
          </p:grpSpPr>
          <p:sp>
            <p:nvSpPr>
              <p:cNvPr id="55" name=""/>
              <p:cNvSpPr/>
              <p:nvPr/>
            </p:nvSpPr>
            <p:spPr>
              <a:xfrm>
                <a:off x="1866960" y="227664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TP Cli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66960" y="281952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Soc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66960" y="332424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PP Ni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63920" y="3200400"/>
                <a:ext cx="838440" cy="38088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66960" y="3809880"/>
                <a:ext cx="12571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G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66960" y="426708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M.TS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66960" y="480060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inTunn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505320" y="2819520"/>
                <a:ext cx="533160" cy="1904400"/>
                <a:chOff x="3505320" y="2819520"/>
                <a:chExt cx="533160" cy="19044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505320" y="2819520"/>
                  <a:ext cx="533160" cy="1904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506400" y="2819520"/>
                  <a:ext cx="503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fm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4348440" y="328464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D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" name=""/>
              <p:cNvCxnSpPr>
                <a:stCxn id="55" idx="2"/>
                <a:endCxn id="57" idx="0"/>
              </p:cNvCxnSpPr>
              <p:nvPr/>
            </p:nvCxnSpPr>
            <p:spPr>
              <a:xfrm flipH="1">
                <a:off x="2505960" y="2492280"/>
                <a:ext cx="4320" cy="327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8" name=""/>
              <p:cNvCxnSpPr>
                <a:stCxn id="57" idx="2"/>
                <a:endCxn id="58" idx="0"/>
              </p:cNvCxnSpPr>
              <p:nvPr/>
            </p:nvCxnSpPr>
            <p:spPr>
              <a:xfrm>
                <a:off x="2505960" y="3035160"/>
                <a:ext cx="360" cy="289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69" name=""/>
              <p:cNvSpPr/>
              <p:nvPr/>
            </p:nvSpPr>
            <p:spPr>
              <a:xfrm>
                <a:off x="3124080" y="28954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24080" y="34290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124080" y="38862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" name=""/>
              <p:cNvCxnSpPr>
                <a:stCxn id="58" idx="2"/>
                <a:endCxn id="60" idx="0"/>
              </p:cNvCxnSpPr>
              <p:nvPr/>
            </p:nvCxnSpPr>
            <p:spPr>
              <a:xfrm flipH="1">
                <a:off x="2495520" y="3539880"/>
                <a:ext cx="10800" cy="270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3" name=""/>
              <p:cNvCxnSpPr>
                <a:stCxn id="60" idx="2"/>
                <a:endCxn id="61" idx="0"/>
              </p:cNvCxnSpPr>
              <p:nvPr/>
            </p:nvCxnSpPr>
            <p:spPr>
              <a:xfrm>
                <a:off x="2495520" y="4025520"/>
                <a:ext cx="1080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4" name=""/>
              <p:cNvCxnSpPr>
                <a:stCxn id="61" idx="2"/>
                <a:endCxn id="62" idx="0"/>
              </p:cNvCxnSpPr>
              <p:nvPr/>
            </p:nvCxnSpPr>
            <p:spPr>
              <a:xfrm>
                <a:off x="2505960" y="4482720"/>
                <a:ext cx="4320" cy="31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75" name=""/>
              <p:cNvSpPr/>
              <p:nvPr/>
            </p:nvSpPr>
            <p:spPr>
              <a:xfrm>
                <a:off x="4048200" y="3400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33800" y="43815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7" name=""/>
            <p:cNvCxnSpPr>
              <a:stCxn id="46" idx="3"/>
              <a:endCxn id="47" idx="1"/>
            </p:cNvCxnSpPr>
            <p:nvPr/>
          </p:nvCxnSpPr>
          <p:spPr>
            <a:xfrm>
              <a:off x="3144960" y="6203520"/>
              <a:ext cx="69156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8" name=""/>
            <p:cNvGrpSpPr/>
            <p:nvPr/>
          </p:nvGrpSpPr>
          <p:grpSpPr>
            <a:xfrm>
              <a:off x="3438360" y="1214280"/>
              <a:ext cx="399960" cy="557280"/>
              <a:chOff x="3438360" y="1214280"/>
              <a:chExt cx="399960" cy="557280"/>
            </a:xfrm>
          </p:grpSpPr>
          <p:sp>
            <p:nvSpPr>
              <p:cNvPr id="79" name=""/>
              <p:cNvSpPr/>
              <p:nvPr/>
            </p:nvSpPr>
            <p:spPr>
              <a:xfrm>
                <a:off x="3438360" y="1473120"/>
                <a:ext cx="399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38520" y="1434960"/>
                <a:ext cx="0" cy="22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3438360" y="1658880"/>
                <a:ext cx="20016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38520" y="1658880"/>
                <a:ext cx="19980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524040" y="1214280"/>
                <a:ext cx="219240" cy="204840"/>
              </a:xfrm>
              <a:prstGeom prst="smileyFace">
                <a:avLst>
                  <a:gd name="adj" fmla="val 9282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9:31:52Z</dcterms:created>
  <dc:creator>EXTVictorM</dc:creator>
  <dc:description/>
  <dc:language>en-US</dc:language>
  <cp:lastModifiedBy>EXTVictorM</cp:lastModifiedBy>
  <dcterms:modified xsi:type="dcterms:W3CDTF">2004-03-24T20:56:25Z</dcterms:modified>
  <cp:revision>8</cp:revision>
  <dc:subject/>
  <dc:title>Slide 1</dc:title>
</cp:coreProperties>
</file>