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D89-D2EC-45C6-A42D-F779488E59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8E71D-953B-44F3-9176-5A472D78E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E106E-B108-481D-9D42-F9CB964AFB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BD32-A6DA-4D4A-A444-F17CD630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0143-B0A7-4620-AB99-6051D109E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8C002-D47D-43DC-9EF8-CE6E0C1C5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C071-459D-4F27-BE41-D2470D62E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7819-E234-47EF-AB59-8C7C249BD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8F76-6409-4F6A-9951-10BB63039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09C0F-AED5-4C68-AF20-4195B29A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0C938-69CB-4294-BBC9-9F7032219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B027A-534F-4C23-B20C-E33990DA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EF301-8BA1-4C28-B449-236236D52B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620720" y="1000080"/>
            <a:ext cx="5008680" cy="6848640"/>
            <a:chOff x="1620720" y="1000080"/>
            <a:chExt cx="5008680" cy="6848640"/>
          </a:xfrm>
        </p:grpSpPr>
        <p:sp>
          <p:nvSpPr>
            <p:cNvPr id="42" name=""/>
            <p:cNvSpPr/>
            <p:nvPr/>
          </p:nvSpPr>
          <p:spPr>
            <a:xfrm>
              <a:off x="1620720" y="2057400"/>
              <a:ext cx="5008680" cy="3200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948640" y="2057400"/>
              <a:ext cx="6789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EPOC32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620720" y="5791320"/>
              <a:ext cx="500868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830480" y="5791320"/>
              <a:ext cx="1796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WinTunnel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849320" y="609588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836160" y="6095880"/>
              <a:ext cx="517680" cy="2156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PP.ini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620720" y="7162920"/>
              <a:ext cx="5008680" cy="6858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849320" y="7391520"/>
              <a:ext cx="1295640" cy="21564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TP Serv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39440" y="7162920"/>
              <a:ext cx="1387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FTP Server Machin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478240" y="6324480"/>
              <a:ext cx="75960" cy="1067040"/>
            </a:xfrm>
            <a:prstGeom prst="upDownArrow">
              <a:avLst>
                <a:gd name="adj1" fmla="val 50000"/>
                <a:gd name="adj2" fmla="val 27964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68520" y="5038560"/>
              <a:ext cx="85680" cy="1067040"/>
            </a:xfrm>
            <a:prstGeom prst="upDownArrow">
              <a:avLst>
                <a:gd name="adj1" fmla="val 50000"/>
                <a:gd name="adj2" fmla="val 247922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390840" y="1000080"/>
              <a:ext cx="4730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ester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4" name=""/>
            <p:cNvCxnSpPr>
              <a:stCxn id="55" idx="0"/>
            </p:cNvCxnSpPr>
            <p:nvPr/>
          </p:nvCxnSpPr>
          <p:spPr>
            <a:xfrm flipV="1">
              <a:off x="2509920" y="1551960"/>
              <a:ext cx="1027440" cy="725040"/>
            </a:xfrm>
            <a:prstGeom prst="straightConnector1">
              <a:avLst/>
            </a:prstGeom>
            <a:ln w="1260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56" name=""/>
            <p:cNvGrpSpPr/>
            <p:nvPr/>
          </p:nvGrpSpPr>
          <p:grpSpPr>
            <a:xfrm>
              <a:off x="1866960" y="2276640"/>
              <a:ext cx="3335400" cy="2739600"/>
              <a:chOff x="1866960" y="2276640"/>
              <a:chExt cx="3335400" cy="2739600"/>
            </a:xfrm>
          </p:grpSpPr>
          <p:sp>
            <p:nvSpPr>
              <p:cNvPr id="55" name=""/>
              <p:cNvSpPr/>
              <p:nvPr/>
            </p:nvSpPr>
            <p:spPr>
              <a:xfrm>
                <a:off x="1866960" y="227664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FTP Clien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866960" y="281952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ESock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866960" y="332424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PPP Nif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4363920" y="3200400"/>
                <a:ext cx="838440" cy="380880"/>
              </a:xfrm>
              <a:prstGeom prst="can">
                <a:avLst>
                  <a:gd name="adj" fmla="val 25000"/>
                </a:avLst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866960" y="3809880"/>
                <a:ext cx="12571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AGT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866960" y="4267080"/>
                <a:ext cx="127800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SIM.TSY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866960" y="4800600"/>
                <a:ext cx="1285920" cy="215640"/>
              </a:xfrm>
              <a:prstGeom prst="rect">
                <a:avLst/>
              </a:prstGeom>
              <a:solidFill>
                <a:srgbClr val="c0c0c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WinTunnel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3" name=""/>
              <p:cNvGrpSpPr/>
              <p:nvPr/>
            </p:nvGrpSpPr>
            <p:grpSpPr>
              <a:xfrm>
                <a:off x="3505320" y="2819520"/>
                <a:ext cx="533160" cy="1904400"/>
                <a:chOff x="3505320" y="2819520"/>
                <a:chExt cx="533160" cy="190440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3505320" y="2819520"/>
                  <a:ext cx="533160" cy="1904400"/>
                </a:xfrm>
                <a:prstGeom prst="rect">
                  <a:avLst/>
                </a:prstGeom>
                <a:solidFill>
                  <a:srgbClr val="c0c0c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3506400" y="2819520"/>
                  <a:ext cx="503640" cy="215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800" spc="-1" strike="noStrike">
                      <a:solidFill>
                        <a:srgbClr val="000000"/>
                      </a:solidFill>
                      <a:latin typeface="Arial"/>
                    </a:rPr>
                    <a:t>Nifman</a:t>
                  </a:r>
                  <a:endParaRPr b="0" lang="en-US" sz="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" name=""/>
              <p:cNvSpPr/>
              <p:nvPr/>
            </p:nvSpPr>
            <p:spPr>
              <a:xfrm>
                <a:off x="4348440" y="3284640"/>
                <a:ext cx="622800" cy="215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CommDB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67" name=""/>
              <p:cNvCxnSpPr>
                <a:stCxn id="55" idx="2"/>
                <a:endCxn id="57" idx="0"/>
              </p:cNvCxnSpPr>
              <p:nvPr/>
            </p:nvCxnSpPr>
            <p:spPr>
              <a:xfrm flipH="1">
                <a:off x="2505960" y="2492280"/>
                <a:ext cx="4320" cy="32760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68" name=""/>
              <p:cNvCxnSpPr>
                <a:stCxn id="57" idx="2"/>
                <a:endCxn id="58" idx="0"/>
              </p:cNvCxnSpPr>
              <p:nvPr/>
            </p:nvCxnSpPr>
            <p:spPr>
              <a:xfrm>
                <a:off x="2505960" y="3035160"/>
                <a:ext cx="360" cy="289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69" name=""/>
              <p:cNvSpPr/>
              <p:nvPr/>
            </p:nvSpPr>
            <p:spPr>
              <a:xfrm>
                <a:off x="3124080" y="289548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124080" y="34290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3124080" y="3886200"/>
                <a:ext cx="381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72" name=""/>
              <p:cNvCxnSpPr>
                <a:stCxn id="58" idx="2"/>
                <a:endCxn id="60" idx="0"/>
              </p:cNvCxnSpPr>
              <p:nvPr/>
            </p:nvCxnSpPr>
            <p:spPr>
              <a:xfrm flipH="1">
                <a:off x="2495520" y="3539880"/>
                <a:ext cx="10800" cy="27036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3" name=""/>
              <p:cNvCxnSpPr>
                <a:stCxn id="60" idx="2"/>
                <a:endCxn id="61" idx="0"/>
              </p:cNvCxnSpPr>
              <p:nvPr/>
            </p:nvCxnSpPr>
            <p:spPr>
              <a:xfrm>
                <a:off x="2495520" y="4025520"/>
                <a:ext cx="10800" cy="24192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cxnSp>
            <p:nvCxnSpPr>
              <p:cNvPr id="74" name=""/>
              <p:cNvCxnSpPr>
                <a:stCxn id="61" idx="2"/>
                <a:endCxn id="62" idx="0"/>
              </p:cNvCxnSpPr>
              <p:nvPr/>
            </p:nvCxnSpPr>
            <p:spPr>
              <a:xfrm>
                <a:off x="2505960" y="4482720"/>
                <a:ext cx="4320" cy="3182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</p:cxnSp>
          <p:sp>
            <p:nvSpPr>
              <p:cNvPr id="75" name=""/>
              <p:cNvSpPr/>
              <p:nvPr/>
            </p:nvSpPr>
            <p:spPr>
              <a:xfrm>
                <a:off x="4048200" y="3400560"/>
                <a:ext cx="3045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3133800" y="4381560"/>
                <a:ext cx="38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cxnSp>
          <p:nvCxnSpPr>
            <p:cNvPr id="77" name=""/>
            <p:cNvCxnSpPr>
              <a:stCxn id="46" idx="3"/>
              <a:endCxn id="47" idx="1"/>
            </p:cNvCxnSpPr>
            <p:nvPr/>
          </p:nvCxnSpPr>
          <p:spPr>
            <a:xfrm>
              <a:off x="3144960" y="6203520"/>
              <a:ext cx="691560" cy="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grpSp>
          <p:nvGrpSpPr>
            <p:cNvPr id="78" name=""/>
            <p:cNvGrpSpPr/>
            <p:nvPr/>
          </p:nvGrpSpPr>
          <p:grpSpPr>
            <a:xfrm>
              <a:off x="3438360" y="1214280"/>
              <a:ext cx="399960" cy="557280"/>
              <a:chOff x="3438360" y="1214280"/>
              <a:chExt cx="399960" cy="557280"/>
            </a:xfrm>
          </p:grpSpPr>
          <p:sp>
            <p:nvSpPr>
              <p:cNvPr id="79" name=""/>
              <p:cNvSpPr/>
              <p:nvPr/>
            </p:nvSpPr>
            <p:spPr>
              <a:xfrm>
                <a:off x="3438360" y="1473120"/>
                <a:ext cx="3999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3638520" y="1434960"/>
                <a:ext cx="0" cy="223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>
                <a:off x="3438360" y="1658880"/>
                <a:ext cx="20016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3638520" y="1658880"/>
                <a:ext cx="199800" cy="11268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524040" y="1214280"/>
                <a:ext cx="219240" cy="204840"/>
              </a:xfrm>
              <a:prstGeom prst="smileyFace">
                <a:avLst>
                  <a:gd name="adj" fmla="val 9282"/>
                </a:avLst>
              </a:prstGeom>
              <a:noFill/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24T19:31:52Z</dcterms:created>
  <dc:creator>EXTVictorM</dc:creator>
  <dc:description/>
  <dc:language>en-US</dc:language>
  <cp:lastModifiedBy>EXTVictorM</cp:lastModifiedBy>
  <dcterms:modified xsi:type="dcterms:W3CDTF">2004-03-24T20:56:25Z</dcterms:modified>
  <cp:revision>8</cp:revision>
  <dc:subject/>
  <dc:title>Slide 1</dc:title>
</cp:coreProperties>
</file>